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CD6-86E4-48E6-B33F-8FF074D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01C-F4E6-4114-8CE8-D241AE1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D70-5225-4E8F-9CD0-20072592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225-8635-4C15-9F95-88382740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594-AD30-4717-8E7D-E744A5A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04F-109B-4CDF-A3FD-765005C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AED-0C1A-47FA-9419-C4CE3B2F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8FB-9FC7-408C-AF4D-9C01DD2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16F-6B8A-4F9F-98B9-4EB1A7B3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251-3779-4854-8F61-7300DAC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098-FF6D-4EB7-99B2-9E41AE8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DEE-9552-4DB6-AED0-D5645A5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6A92-1CC0-4793-AA6A-455855E6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Mar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rson who leaves his or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ive country to live i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ign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mmigr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aring lonely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unhap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orl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hful; quiet and hu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using to feel less hopefu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enthusias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iscoura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harmed or damag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t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at suffer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ib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change or aff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one without 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fluen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tiful or sorrow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thet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t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lace where pray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said or religiou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k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h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ate’s disappointment gr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she heard the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ws of her canceled vac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iscoura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end a person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count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nge or unusu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ppearance or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ccen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 and stubb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n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used or uncertai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ag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be disloyal to some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going against his or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betr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overwhelm with sur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asto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labberg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thing that is thought to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ign of a good or b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t to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utting of blood or pla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a person’s or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’s bloodstr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fu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ichard Fitzgerald</cp:lastModifiedBy>
  <dcterms:modified xsi:type="dcterms:W3CDTF">2001-05-18T01:45:03Z</dcterms:modified>
  <cp:revision>5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