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E11-AD52-4179-A4F2-7A9A1C69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8F-0A53-4522-8E0D-3741A2F0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A1B-AEBF-4BF3-85AC-F4FF176D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38E-B99B-42ED-AA1B-84F312A3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C3B-7EBF-4BB0-930C-07E58AB6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4B3-7189-420F-AC4A-50000AE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30B-8C91-46F5-AC46-6766696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E76-480D-4712-B7C5-43BEE71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B25-67FC-4809-BC56-CCF09856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3B3-66E4-481F-8188-6BC14875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008-C8DA-441B-A6AA-BB82E2B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DB7-A07A-4390-B41E-BDBD922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0D97-9D80-42FB-AD19-D10DA939F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3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3.xml"/><Relationship Id="rId19" Type="http://schemas.openxmlformats.org/officeDocument/2006/relationships/slide" Target="slide9.xml"/><Relationship Id="rId20" Type="http://schemas.openxmlformats.org/officeDocument/2006/relationships/slide" Target="slide17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19.xml"/><Relationship Id="rId25" Type="http://schemas.openxmlformats.org/officeDocument/2006/relationships/slide" Target="slide19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Vaug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1logo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1 7/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36232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43828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 1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514600"/>
            <a:ext cx="1447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22096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/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5909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3/5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514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s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2860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xed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2743200"/>
            <a:ext cx="60948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1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3200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27432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14847"/>
              <a:gd name="adj2" fmla="val 738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/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666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2828"/>
              <a:gd name="adj2" fmla="val -511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4 1/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/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590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udent</cp:lastModifiedBy>
  <dcterms:modified xsi:type="dcterms:W3CDTF">2001-01-24T21:31:44Z</dcterms:modified>
  <cp:revision>4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