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48D-F86B-40FD-BF76-E04185E7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89A-8F36-43F7-B08A-B7F13859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E58-59C9-4593-A4AA-7EB3BE84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279-5755-4062-BA14-43357F7A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103-0CED-44E4-B1F1-30DC8AD0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1F9-13F9-40C3-AD0A-0B5F05BB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78E-5D3E-41FC-A511-AA7FB156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CAD-70DF-416E-BFE1-A612A9F8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915-CC1B-4DCB-94B4-B7E9947F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09A-A22C-4DF4-87AB-126CE288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7E8-8E4A-4D02-9D5C-F07C9C49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C8F-85D5-4116-975F-3116E742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96A4-D103-4E4F-96D1-992076484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4.xml"/><Relationship Id="rId12" Type="http://schemas.openxmlformats.org/officeDocument/2006/relationships/slide" Target="slide18.xml"/><Relationship Id="rId13" Type="http://schemas.openxmlformats.org/officeDocument/2006/relationships/slide" Target="slide3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3.xml"/><Relationship Id="rId19" Type="http://schemas.openxmlformats.org/officeDocument/2006/relationships/slide" Target="slide9.xml"/><Relationship Id="rId20" Type="http://schemas.openxmlformats.org/officeDocument/2006/relationships/slide" Target="slide17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19.xml"/><Relationship Id="rId25" Type="http://schemas.openxmlformats.org/officeDocument/2006/relationships/slide" Target="slide19.xml"/><Relationship Id="rId26" Type="http://schemas.openxmlformats.org/officeDocument/2006/relationships/slide" Target="slide20.xml"/><Relationship Id="rId27" Type="http://schemas.openxmlformats.org/officeDocument/2006/relationships/slide" Target="slide20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3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1logo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erpendicular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905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ilateral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590920"/>
            <a:ext cx="1905120" cy="144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438280"/>
            <a:ext cx="3962160" cy="1600200"/>
          </a:xfrm>
          <a:prstGeom prst="parallelogram">
            <a:avLst>
              <a:gd name="adj" fmla="val 6190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038480" y="17521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intersecting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200400" y="2133360"/>
            <a:ext cx="27432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5909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1752480"/>
            <a:ext cx="2667240" cy="2438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rapezo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209680"/>
            <a:ext cx="3048120" cy="1600200"/>
          </a:xfrm>
          <a:custGeom>
            <a:avLst/>
            <a:gdLst>
              <a:gd name="textAreaLeft" fmla="*/ 670320 w 3048120"/>
              <a:gd name="textAreaRight" fmla="*/ 2377800 w 3048120"/>
              <a:gd name="textAreaTop" fmla="*/ 351720 h 1600200"/>
              <a:gd name="textAreaBottom" fmla="*/ 1248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 r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14800" y="2133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352680" y="2361960"/>
            <a:ext cx="289584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514600"/>
            <a:ext cx="1904760" cy="175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6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qu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1981080"/>
            <a:ext cx="22100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tra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9056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0481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calene triang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133720"/>
            <a:ext cx="1646280" cy="236196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ct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2286000"/>
            <a:ext cx="2819520" cy="1523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ert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29000" y="18284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6668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arallel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2096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743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sosceles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981080"/>
            <a:ext cx="2103480" cy="237816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362320"/>
            <a:ext cx="1981440" cy="1447560"/>
          </a:xfrm>
          <a:prstGeom prst="parallelogram">
            <a:avLst>
              <a:gd name="adj" fmla="val 342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obtus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819160" y="19047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fitzgerald or guest</cp:lastModifiedBy>
  <dcterms:modified xsi:type="dcterms:W3CDTF">2001-01-31T12:31:27Z</dcterms:modified>
  <cp:revision>4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