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157-0289-461D-8376-2182CF3D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BFF9-FD8A-4E70-B425-9F1B2480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DB2-D941-483A-BAAA-17A176E4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D3DE-0CCC-43F6-8F35-D34B4A195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F61-EA76-4C49-8207-CD8960F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D15-EBDA-49DF-8C9C-D582FD69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F58-07E5-4FCD-8A13-BBB1F1C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0E1-2106-4394-A039-B09800E6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888-1B7F-4EF6-B861-90555FB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288-37FA-4EF1-B958-10A6ED4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F0C-30FF-4506-9F6C-C17A9CB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F9A-A1B5-4397-9F02-4C990638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76C7-CB72-4F1E-833C-E3E908660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Mar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erson who leaves his or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tive country to live i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eign count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mmigr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earing lonely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unhap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orl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hful; quiet and hu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ee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using to feel less hopefu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enthusias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iscoura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harmed or damag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t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us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eat suffer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ib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change or affe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one without u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rect fo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fluen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tiful or sorrow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athet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d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y importa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it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lace where pray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said or religious o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ke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hr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ate’s disappointment gr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 she heard the 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ews of her canceled vac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iscoura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send a person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countr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range or unusu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ppearance or beh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eccentr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an and stubbo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rne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used or uncertain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vagu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be disloyal to some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going against his or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s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betr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overwhelm with surp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astonish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labberga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mething that is thought to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sign of a good or b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t to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om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putting of blood or plas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o a person’s or 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imal’s bloodstre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ransfu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Richard Fitzgerald</cp:lastModifiedBy>
  <dcterms:modified xsi:type="dcterms:W3CDTF">2001-05-18T01:45:03Z</dcterms:modified>
  <cp:revision>5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