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826-37B6-4AA7-B459-024B22B2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861-F810-4153-94A9-91CFCFB0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0FC-2FD0-44DD-99ED-322C2D5A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2DD-2DF1-4F62-BE6E-A9806708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FE2-ADE1-4A27-87FC-22785E5F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4728-3C95-45EC-B976-333B9740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BCC-6155-4321-A0C2-C8CCE9B7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22F-195C-4222-9BBD-E4581DE9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ECD-F430-4239-A7D2-A5BB15F9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381-A70E-475A-A44A-EE541EF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986-7C91-4A96-888D-4C36C65B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D26-A263-4060-955F-DDAC8A4B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F2D-8240-44C0-8674-E4F9A0FE7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4.xml"/><Relationship Id="rId12" Type="http://schemas.openxmlformats.org/officeDocument/2006/relationships/slide" Target="slide18.xml"/><Relationship Id="rId13" Type="http://schemas.openxmlformats.org/officeDocument/2006/relationships/slide" Target="slide3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3.xml"/><Relationship Id="rId19" Type="http://schemas.openxmlformats.org/officeDocument/2006/relationships/slide" Target="slide9.xml"/><Relationship Id="rId20" Type="http://schemas.openxmlformats.org/officeDocument/2006/relationships/slide" Target="slide17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19.xml"/><Relationship Id="rId25" Type="http://schemas.openxmlformats.org/officeDocument/2006/relationships/slide" Target="slide19.xml"/><Relationship Id="rId26" Type="http://schemas.openxmlformats.org/officeDocument/2006/relationships/slide" Target="slide20.xml"/><Relationship Id="rId27" Type="http://schemas.openxmlformats.org/officeDocument/2006/relationships/slide" Target="slide20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3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1logo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erpendicular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905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3048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equilateral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2590920"/>
            <a:ext cx="1905120" cy="1447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2438280"/>
            <a:ext cx="3962160" cy="1600200"/>
          </a:xfrm>
          <a:prstGeom prst="parallelogram">
            <a:avLst>
              <a:gd name="adj" fmla="val 61901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038480" y="1752120"/>
            <a:ext cx="1447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intersecting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200400" y="2133360"/>
            <a:ext cx="27432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590920"/>
            <a:ext cx="312408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1752480"/>
            <a:ext cx="2667240" cy="243864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trapezoi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2209680"/>
            <a:ext cx="3048120" cy="1600200"/>
          </a:xfrm>
          <a:custGeom>
            <a:avLst/>
            <a:gdLst>
              <a:gd name="textAreaLeft" fmla="*/ 670320 w 3048120"/>
              <a:gd name="textAreaRight" fmla="*/ 2377800 w 3048120"/>
              <a:gd name="textAreaTop" fmla="*/ 351720 h 1600200"/>
              <a:gd name="textAreaBottom" fmla="*/ 12484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is a r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114800" y="21333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a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352680" y="2361960"/>
            <a:ext cx="289584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acute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514600"/>
            <a:ext cx="1904760" cy="175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6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qu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1981080"/>
            <a:ext cx="221004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traight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3276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9056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04812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scalene triangl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2133720"/>
            <a:ext cx="1646280" cy="236196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ect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2286000"/>
            <a:ext cx="2819520" cy="1523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verte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29000" y="1828440"/>
            <a:ext cx="137160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26668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parallel li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220968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7432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isosceles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981080"/>
            <a:ext cx="2103480" cy="237816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371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y by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362320"/>
            <a:ext cx="1981440" cy="1447560"/>
          </a:xfrm>
          <a:prstGeom prst="parallelogram">
            <a:avLst>
              <a:gd name="adj" fmla="val 3422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n obtuse 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819160" y="19047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fitzgerald or guest</cp:lastModifiedBy>
  <dcterms:modified xsi:type="dcterms:W3CDTF">2001-01-31T12:31:27Z</dcterms:modified>
  <cp:revision>4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