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3EC0-28A6-449C-84CF-DD79209B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34DE-0A29-4262-A8DE-3AF78808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55F0-A77B-4905-865F-A1036FB3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293-AC86-4F72-A959-C25CA1FD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44D4-AE6F-4D00-997C-587A41E6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7220-0BA3-453F-AB6D-7F7DD84E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5BE-1011-4709-A83C-89280257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7ED7-91E8-4A9B-947C-F2E31DFD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B61-5D85-4323-B0DD-3A90B2B9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4ED4-F0A1-4FEC-987F-A662DE60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12C-B91F-48C2-973A-0AF990AD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AD2B-0FE6-476C-8B07-DF4C3ED1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D0C0-24DF-4B42-B3A5-0B79EB31A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4.xml"/><Relationship Id="rId12" Type="http://schemas.openxmlformats.org/officeDocument/2006/relationships/slide" Target="slide18.xml"/><Relationship Id="rId13" Type="http://schemas.openxmlformats.org/officeDocument/2006/relationships/slide" Target="slide3.xml"/><Relationship Id="rId14" Type="http://schemas.openxmlformats.org/officeDocument/2006/relationships/slide" Target="slide11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" Target="slide12.xml"/><Relationship Id="rId18" Type="http://schemas.openxmlformats.org/officeDocument/2006/relationships/slide" Target="slide13.xml"/><Relationship Id="rId19" Type="http://schemas.openxmlformats.org/officeDocument/2006/relationships/slide" Target="slide9.xml"/><Relationship Id="rId20" Type="http://schemas.openxmlformats.org/officeDocument/2006/relationships/slide" Target="slide17.xml"/><Relationship Id="rId21" Type="http://schemas.openxmlformats.org/officeDocument/2006/relationships/slide" Target="slide8.xml"/><Relationship Id="rId22" Type="http://schemas.openxmlformats.org/officeDocument/2006/relationships/slide" Target="slide7.xml"/><Relationship Id="rId23" Type="http://schemas.openxmlformats.org/officeDocument/2006/relationships/slide" Target="slide6.xml"/><Relationship Id="rId24" Type="http://schemas.openxmlformats.org/officeDocument/2006/relationships/slide" Target="slide19.xml"/><Relationship Id="rId25" Type="http://schemas.openxmlformats.org/officeDocument/2006/relationships/slide" Target="slide19.xml"/><Relationship Id="rId26" Type="http://schemas.openxmlformats.org/officeDocument/2006/relationships/slide" Target="slide20.xml"/><Relationship Id="rId27" Type="http://schemas.openxmlformats.org/officeDocument/2006/relationships/slide" Target="slide20.xml"/><Relationship Id="rId28" Type="http://schemas.openxmlformats.org/officeDocument/2006/relationships/slide" Target="slide21.xml"/><Relationship Id="rId29" Type="http://schemas.openxmlformats.org/officeDocument/2006/relationships/slide" Target="slide22.xml"/><Relationship Id="rId30" Type="http://schemas.openxmlformats.org/officeDocument/2006/relationships/slide" Target="slide3.xml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. Vaug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g1logo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648320" cy="1468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1048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1 7/1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3124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2362320"/>
            <a:ext cx="2895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2971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971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95680" y="2666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3/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32767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l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2438280"/>
            <a:ext cx="426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048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3048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89548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3 1/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2514600"/>
            <a:ext cx="1447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3124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9907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2209680"/>
            <a:ext cx="3962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483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3/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2590920"/>
            <a:ext cx="6094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3/5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2971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5146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x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0880"/>
            <a:ext cx="16002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380880"/>
            <a:ext cx="1752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plest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380880"/>
            <a:ext cx="16002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10280" y="228600"/>
            <a:ext cx="1600200" cy="6426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xed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5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6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8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9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0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1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2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3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4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6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8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29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/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895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2680" y="2971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81480" y="2971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2743200"/>
            <a:ext cx="60948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1/8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32004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3920" y="274320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1143000"/>
            <a:ext cx="7162920" cy="4038480"/>
          </a:xfrm>
          <a:prstGeom prst="wedgeRectCallout">
            <a:avLst>
              <a:gd name="adj1" fmla="val -14847"/>
              <a:gd name="adj2" fmla="val 738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12193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3124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3124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/6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12300"/>
              <a:gd name="adj2" fmla="val -107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2971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2971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2666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2828"/>
              <a:gd name="adj2" fmla="val -5111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4 1/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3124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1447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895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2895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1/2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112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&gt;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5909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student</cp:lastModifiedBy>
  <dcterms:modified xsi:type="dcterms:W3CDTF">2001-01-24T21:31:44Z</dcterms:modified>
  <cp:revision>49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