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FC5-DEF6-4D4C-AFE8-9F0A0561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9E5-DF0B-4F40-8600-4A6F99A4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D21-30C1-4A8C-B45C-F20B392B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E4F-C071-4BD1-8A82-DEF18F95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110-735C-493F-B4F5-20CB95C4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A66-B213-4AF8-91EE-9261EB5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1F8-35CD-4B27-B4DE-C0056EAF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BBE-0394-4509-A4B7-ED6B2802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41A-5AEE-4D3A-9A62-FC49BE1B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46F-7E09-4B7D-AD95-1A817DC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378-C771-4F4A-8B6D-78918BD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5D1-8B9C-4124-8F4F-84B3F7B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14F-A9E3-446B-8FB3-5F97277C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rubin</cp:lastModifiedBy>
  <dcterms:modified xsi:type="dcterms:W3CDTF">2001-12-13T13:50:13Z</dcterms:modified>
  <cp:revision>42</cp:revision>
  <dc:subject/>
  <dc:title>No Slide Title</dc:title>
</cp:coreProperties>
</file>