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0DC-D125-4F65-B6D8-761B1B08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C89-DB8B-42DD-9835-1C60F31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B4D-0932-485C-9E35-8FF54A8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62B-9C60-4AD4-BAD2-A0FB0D1D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5C8-71AE-43CC-B4E5-07BC747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4B5-F368-4CC8-AA58-2AC39368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A69-7F8C-4508-8D11-A5AF5616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82C-7CB8-488A-B3BE-149ECA9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6C0-1F8C-4417-903E-5BC6BD0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FE1-D186-4864-A2F1-A449600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B48-00FF-4E4D-AF40-5847D75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19D-F464-4046-A546-03A3944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E8B-40F0-41EB-A08E-CCA2478DB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mwon.wav" TargetMode="External"/><Relationship Id="rId2" Type="http://schemas.microsoft.com/office/2007/relationships/media" Target="file:///tmp/home/.config/libreoffice/4/user/gallery/bmwon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light.wav" TargetMode="External"/><Relationship Id="rId6" Type="http://schemas.microsoft.com/office/2007/relationships/media" Target="file:///tmp/home/.config/libreoffice/4/user/gallery/light.wav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audio" Target="file:///tmp/home/.config/libreoffice/4/user/gallery/sting.wav" TargetMode="External"/><Relationship Id="rId10" Type="http://schemas.microsoft.com/office/2007/relationships/media" Target="file:///tmp/home/.config/libreoffice/4/user/gallery/sting.wav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lanktemp16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652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lanktemp32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7652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94" name="Blanktemp64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52480" y="58672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58672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10" name="Blanktemp125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956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560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26" name="Blanktemp250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50548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518148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42" name="Blanktemp500000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58" name="Blanktemp1mil" descr=""/>
          <p:cNvPicPr/>
          <p:nvPr/>
        </p:nvPicPr>
        <p:blipFill>
          <a:blip r:embed="rId4"/>
          <a:stretch/>
        </p:blipFill>
        <p:spPr>
          <a:xfrm>
            <a:off x="474840" y="216000"/>
            <a:ext cx="8199360" cy="6432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7920" y="289404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419720" y="380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5257800" y="2286000"/>
            <a:ext cx="382680" cy="382680"/>
          </a:xfrm>
          <a:prstGeom prst="rect">
            <a:avLst/>
          </a:prstGeom>
          <a:ln w="0">
            <a:noFill/>
          </a:ln>
        </p:spPr>
      </p:pic>
      <p:pic>
        <p:nvPicPr>
          <p:cNvPr id="44" name="Blanktemp" descr=""/>
          <p:cNvPicPr/>
          <p:nvPr/>
        </p:nvPicPr>
        <p:blipFill>
          <a:blip r:embed="rId8"/>
          <a:stretch/>
        </p:blipFill>
        <p:spPr>
          <a:xfrm>
            <a:off x="455760" y="196920"/>
            <a:ext cx="8229600" cy="645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2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3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4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lanktemp2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lanktemp3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lanktemp5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90544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lanktemp1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lanktemp2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lanktemp4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29160" y="5200560"/>
            <a:ext cx="24386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Blanktemp8000" descr=""/>
          <p:cNvPicPr/>
          <p:nvPr/>
        </p:nvPicPr>
        <p:blipFill>
          <a:blip r:embed="rId1"/>
          <a:stretch/>
        </p:blipFill>
        <p:spPr>
          <a:xfrm>
            <a:off x="465120" y="208080"/>
            <a:ext cx="8218440" cy="6448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7920" y="28940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410080" y="243828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14680" y="592452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4680" y="5943600"/>
            <a:ext cx="24382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417920" y="327492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4191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your quest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14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143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17:34:18Z</dcterms:created>
  <dc:creator>rcs</dc:creator>
  <dc:description/>
  <dc:language>en-US</dc:language>
  <cp:lastModifiedBy>rcs</cp:lastModifiedBy>
  <dcterms:modified xsi:type="dcterms:W3CDTF">2001-03-15T18:13:52Z</dcterms:modified>
  <cp:revision>39</cp:revision>
  <dc:subject/>
  <dc:title>No Slide Title</dc:title>
</cp:coreProperties>
</file>