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C4C1-2110-4216-8541-A2E8E636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2FBA-234E-4FB2-9E73-E2CC30FC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AF49-5FD2-4F0B-99D5-50F535823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B6B8-DFB8-479C-80D1-0CD56E1EE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5E4F-C5A9-48B1-A7E4-BFCE74F3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EA76-8EB5-4171-8CFB-04069364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4CFD-76C7-4609-A758-2FD21F9A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E8B4-D4CE-4A06-B9D4-6644A591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F9A1-E53A-4FA8-8A89-031138FF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8048-B862-4B33-A0BC-F03387CC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E82F-B491-4C3E-A3DC-E75FCED1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DDFA-DBD3-42E3-B27C-3D826776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B48D-27A6-4207-A216-241A32859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5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6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7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bmwon.wav" TargetMode="External"/><Relationship Id="rId2" Type="http://schemas.microsoft.com/office/2007/relationships/media" Target="file:///tmp/home/.config/libreoffice/4/user/gallery/bmwon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audio" Target="file:///tmp/home/.config/libreoffice/4/user/gallery/light.wav" TargetMode="External"/><Relationship Id="rId6" Type="http://schemas.microsoft.com/office/2007/relationships/media" Target="file:///tmp/home/.config/libreoffice/4/user/gallery/light.wav" TargetMode="External"/><Relationship Id="rId7" Type="http://schemas.openxmlformats.org/officeDocument/2006/relationships/image" Target="../media/image1.png"/><Relationship Id="rId8" Type="http://schemas.openxmlformats.org/officeDocument/2006/relationships/image" Target="../media/image3.jpeg"/><Relationship Id="rId9" Type="http://schemas.openxmlformats.org/officeDocument/2006/relationships/audio" Target="file:///tmp/home/.config/libreoffice/4/user/gallery/sting.wav" TargetMode="External"/><Relationship Id="rId10" Type="http://schemas.microsoft.com/office/2007/relationships/media" Target="file:///tmp/home/.config/libreoffice/4/user/gallery/sting.wav" TargetMode="External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Blanktemp16000" descr=""/>
          <p:cNvPicPr/>
          <p:nvPr/>
        </p:nvPicPr>
        <p:blipFill>
          <a:blip r:embed="rId1"/>
          <a:stretch/>
        </p:blipFill>
        <p:spPr>
          <a:xfrm>
            <a:off x="465120" y="208080"/>
            <a:ext cx="8218440" cy="6448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417920" y="289404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419720" y="38088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5257800" y="2286000"/>
            <a:ext cx="1440" cy="1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5410080" y="243828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676520" y="5181480"/>
            <a:ext cx="24382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5181480"/>
            <a:ext cx="24382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905120" y="4191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your question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514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5143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Blanktemp32000" descr=""/>
          <p:cNvPicPr/>
          <p:nvPr/>
        </p:nvPicPr>
        <p:blipFill>
          <a:blip r:embed="rId1"/>
          <a:stretch/>
        </p:blipFill>
        <p:spPr>
          <a:xfrm>
            <a:off x="465120" y="208080"/>
            <a:ext cx="8218440" cy="64483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417920" y="289404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419720" y="38088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5257800" y="2286000"/>
            <a:ext cx="1440" cy="1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5410080" y="243828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676520" y="5924520"/>
            <a:ext cx="24382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5905440"/>
            <a:ext cx="24382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9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905120" y="4191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your question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514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5143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288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27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417920" y="289404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419720" y="38088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257800" y="2286000"/>
            <a:ext cx="1440" cy="1440"/>
          </a:xfrm>
          <a:prstGeom prst="rect">
            <a:avLst/>
          </a:prstGeom>
          <a:ln w="0">
            <a:noFill/>
          </a:ln>
        </p:spPr>
      </p:pic>
      <p:pic>
        <p:nvPicPr>
          <p:cNvPr id="194" name="Blanktemp64000" descr=""/>
          <p:cNvPicPr/>
          <p:nvPr/>
        </p:nvPicPr>
        <p:blipFill>
          <a:blip r:embed="rId4"/>
          <a:stretch/>
        </p:blipFill>
        <p:spPr>
          <a:xfrm>
            <a:off x="474840" y="216000"/>
            <a:ext cx="8199360" cy="64324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5410080" y="243828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52480" y="5867280"/>
            <a:ext cx="24386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5867280"/>
            <a:ext cx="24386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9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905120" y="4191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your question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514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62720" y="5143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417920" y="289404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419720" y="38088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5257800" y="2286000"/>
            <a:ext cx="1440" cy="1440"/>
          </a:xfrm>
          <a:prstGeom prst="rect">
            <a:avLst/>
          </a:prstGeom>
          <a:ln w="0">
            <a:noFill/>
          </a:ln>
        </p:spPr>
      </p:pic>
      <p:pic>
        <p:nvPicPr>
          <p:cNvPr id="210" name="Blanktemp125000" descr=""/>
          <p:cNvPicPr/>
          <p:nvPr/>
        </p:nvPicPr>
        <p:blipFill>
          <a:blip r:embed="rId4"/>
          <a:stretch/>
        </p:blipFill>
        <p:spPr>
          <a:xfrm>
            <a:off x="474840" y="216000"/>
            <a:ext cx="8199360" cy="6432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5410080" y="243828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695600" y="5905440"/>
            <a:ext cx="24382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95600" y="5924520"/>
            <a:ext cx="24382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8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9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905120" y="4191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your question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514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62720" y="5143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27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417920" y="289404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419720" y="38088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257800" y="2286000"/>
            <a:ext cx="1440" cy="1440"/>
          </a:xfrm>
          <a:prstGeom prst="rect">
            <a:avLst/>
          </a:prstGeom>
          <a:ln w="0">
            <a:noFill/>
          </a:ln>
        </p:spPr>
      </p:pic>
      <p:pic>
        <p:nvPicPr>
          <p:cNvPr id="226" name="Blanktemp250000" descr=""/>
          <p:cNvPicPr/>
          <p:nvPr/>
        </p:nvPicPr>
        <p:blipFill>
          <a:blip r:embed="rId4"/>
          <a:stretch/>
        </p:blipFill>
        <p:spPr>
          <a:xfrm>
            <a:off x="474840" y="216000"/>
            <a:ext cx="8199360" cy="64324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5410080" y="243828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5505480" y="5181480"/>
            <a:ext cx="24382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86400" y="5181480"/>
            <a:ext cx="24382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905120" y="4191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your question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14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62720" y="5143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288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627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417920" y="289404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419720" y="38088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257800" y="2286000"/>
            <a:ext cx="1440" cy="1440"/>
          </a:xfrm>
          <a:prstGeom prst="rect">
            <a:avLst/>
          </a:prstGeom>
          <a:ln w="0">
            <a:noFill/>
          </a:ln>
        </p:spPr>
      </p:pic>
      <p:pic>
        <p:nvPicPr>
          <p:cNvPr id="242" name="Blanktemp500000" descr=""/>
          <p:cNvPicPr/>
          <p:nvPr/>
        </p:nvPicPr>
        <p:blipFill>
          <a:blip r:embed="rId4"/>
          <a:stretch/>
        </p:blipFill>
        <p:spPr>
          <a:xfrm>
            <a:off x="474840" y="216000"/>
            <a:ext cx="8199360" cy="64324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5410080" y="243828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752480" y="5181480"/>
            <a:ext cx="24386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52480" y="5181480"/>
            <a:ext cx="24386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7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8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9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905120" y="4191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your question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514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62720" y="5143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288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627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417920" y="289404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419720" y="38088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5257800" y="2286000"/>
            <a:ext cx="1440" cy="1440"/>
          </a:xfrm>
          <a:prstGeom prst="rect">
            <a:avLst/>
          </a:prstGeom>
          <a:ln w="0">
            <a:noFill/>
          </a:ln>
        </p:spPr>
      </p:pic>
      <p:pic>
        <p:nvPicPr>
          <p:cNvPr id="258" name="Blanktemp1mil" descr=""/>
          <p:cNvPicPr/>
          <p:nvPr/>
        </p:nvPicPr>
        <p:blipFill>
          <a:blip r:embed="rId4"/>
          <a:stretch/>
        </p:blipFill>
        <p:spPr>
          <a:xfrm>
            <a:off x="474840" y="216000"/>
            <a:ext cx="8199360" cy="64324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5410080" y="243828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752480" y="5181480"/>
            <a:ext cx="24386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480" y="5181480"/>
            <a:ext cx="24386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6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7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8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9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0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905120" y="4191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your question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514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62720" y="5143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7920" y="2894040"/>
            <a:ext cx="382680" cy="382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4419720" y="380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5257800" y="2286000"/>
            <a:ext cx="382680" cy="382680"/>
          </a:xfrm>
          <a:prstGeom prst="rect">
            <a:avLst/>
          </a:prstGeom>
          <a:ln w="0">
            <a:noFill/>
          </a:ln>
        </p:spPr>
      </p:pic>
      <p:pic>
        <p:nvPicPr>
          <p:cNvPr id="44" name="Blanktemp" descr=""/>
          <p:cNvPicPr/>
          <p:nvPr/>
        </p:nvPicPr>
        <p:blipFill>
          <a:blip r:embed="rId8"/>
          <a:stretch/>
        </p:blipFill>
        <p:spPr>
          <a:xfrm>
            <a:off x="455760" y="196920"/>
            <a:ext cx="8229600" cy="6458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10080" y="5181480"/>
            <a:ext cx="24386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audioFile r:link="rId9"/>
            <p:extLst>
              <p:ext uri="{DAA4B4D4-6D71-4841-9C94-3DE7FCFB9230}">
                <p14:media r:link="rId10"/>
              </p:ext>
            </p:extLst>
          </p:nvPr>
        </p:nvPicPr>
        <p:blipFill>
          <a:blip r:embed="rId11"/>
          <a:stretch>
            <a:fillRect/>
          </a:stretch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410080" y="5181480"/>
            <a:ext cx="24386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2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3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4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05120" y="4191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your question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514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5143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Blanktemp200" descr=""/>
          <p:cNvPicPr/>
          <p:nvPr/>
        </p:nvPicPr>
        <p:blipFill>
          <a:blip r:embed="rId1"/>
          <a:stretch/>
        </p:blipFill>
        <p:spPr>
          <a:xfrm>
            <a:off x="465120" y="208080"/>
            <a:ext cx="8218440" cy="6448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17920" y="289404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419720" y="380880"/>
            <a:ext cx="1440" cy="1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76520" y="5905440"/>
            <a:ext cx="24382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257800" y="228600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76520" y="5905440"/>
            <a:ext cx="24382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05120" y="4191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your question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514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5143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Blanktemp300" descr=""/>
          <p:cNvPicPr/>
          <p:nvPr/>
        </p:nvPicPr>
        <p:blipFill>
          <a:blip r:embed="rId1"/>
          <a:stretch/>
        </p:blipFill>
        <p:spPr>
          <a:xfrm>
            <a:off x="465120" y="208080"/>
            <a:ext cx="8218440" cy="6448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417920" y="289404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419720" y="38088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257800" y="228600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52480" y="5200560"/>
            <a:ext cx="24386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5200560"/>
            <a:ext cx="24386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05120" y="4191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your question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514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62720" y="5143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Blanktemp500" descr=""/>
          <p:cNvPicPr/>
          <p:nvPr/>
        </p:nvPicPr>
        <p:blipFill>
          <a:blip r:embed="rId1"/>
          <a:stretch/>
        </p:blipFill>
        <p:spPr>
          <a:xfrm>
            <a:off x="465120" y="208080"/>
            <a:ext cx="8218440" cy="6448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417920" y="289404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419720" y="38088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257800" y="228600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86400" y="5905440"/>
            <a:ext cx="24382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5905440"/>
            <a:ext cx="24382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905120" y="4191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your question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14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143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Blanktemp1000" descr=""/>
          <p:cNvPicPr/>
          <p:nvPr/>
        </p:nvPicPr>
        <p:blipFill>
          <a:blip r:embed="rId1"/>
          <a:stretch/>
        </p:blipFill>
        <p:spPr>
          <a:xfrm>
            <a:off x="465120" y="208080"/>
            <a:ext cx="8218440" cy="6448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417920" y="289404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419720" y="38088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257800" y="228600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0080" y="5181480"/>
            <a:ext cx="24386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5200560"/>
            <a:ext cx="24386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905120" y="4191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your question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514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5143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Blanktemp2000" descr=""/>
          <p:cNvPicPr/>
          <p:nvPr/>
        </p:nvPicPr>
        <p:blipFill>
          <a:blip r:embed="rId1"/>
          <a:stretch/>
        </p:blipFill>
        <p:spPr>
          <a:xfrm>
            <a:off x="465120" y="208080"/>
            <a:ext cx="8218440" cy="6448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417920" y="289404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419720" y="38088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257800" y="2286000"/>
            <a:ext cx="1440" cy="1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410080" y="5181480"/>
            <a:ext cx="24386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29160" y="5200560"/>
            <a:ext cx="24386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905120" y="4191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your question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514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5143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Blanktemp4000" descr=""/>
          <p:cNvPicPr/>
          <p:nvPr/>
        </p:nvPicPr>
        <p:blipFill>
          <a:blip r:embed="rId1"/>
          <a:stretch/>
        </p:blipFill>
        <p:spPr>
          <a:xfrm>
            <a:off x="465120" y="208080"/>
            <a:ext cx="8218440" cy="6448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17920" y="289404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419720" y="38088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257800" y="2286000"/>
            <a:ext cx="1440" cy="1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5410080" y="243828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410080" y="5181480"/>
            <a:ext cx="24386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29160" y="5200560"/>
            <a:ext cx="24386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05120" y="4191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your question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514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5143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Blanktemp8000" descr=""/>
          <p:cNvPicPr/>
          <p:nvPr/>
        </p:nvPicPr>
        <p:blipFill>
          <a:blip r:embed="rId1"/>
          <a:stretch/>
        </p:blipFill>
        <p:spPr>
          <a:xfrm>
            <a:off x="465120" y="208080"/>
            <a:ext cx="8218440" cy="6448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7920" y="289404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419720" y="38088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257800" y="2286000"/>
            <a:ext cx="1440" cy="1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5410080" y="243828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14680" y="5924520"/>
            <a:ext cx="24382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14680" y="5943600"/>
            <a:ext cx="24382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7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9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905120" y="4191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your question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514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5143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9T17:34:18Z</dcterms:created>
  <dc:creator>rcs</dc:creator>
  <dc:description/>
  <dc:language>en-US</dc:language>
  <cp:lastModifiedBy>rcs</cp:lastModifiedBy>
  <dcterms:modified xsi:type="dcterms:W3CDTF">2001-03-15T18:13:52Z</dcterms:modified>
  <cp:revision>39</cp:revision>
  <dc:subject/>
  <dc:title>No Slide Title</dc:title>
</cp:coreProperties>
</file>