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9d3bd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23520" y="1828800"/>
            <a:ext cx="80010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523520" y="4257000"/>
            <a:ext cx="80010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9d3bd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523520" y="1828800"/>
            <a:ext cx="39042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623200" y="1828800"/>
            <a:ext cx="39042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523520" y="4257000"/>
            <a:ext cx="39042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623200" y="4257000"/>
            <a:ext cx="39042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9d3bd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523520" y="1828800"/>
            <a:ext cx="25761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228920" y="1828800"/>
            <a:ext cx="25761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934320" y="1828800"/>
            <a:ext cx="25761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523520" y="4257000"/>
            <a:ext cx="25761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4228920" y="4257000"/>
            <a:ext cx="25761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934320" y="4257000"/>
            <a:ext cx="25761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43B3DB-CAD2-4BE1-A828-439D1CA5B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9d3bd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523520" y="182880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EB9F3B-B497-4FE6-A0C2-040050C11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9d3bd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23520" y="182880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05FD00-456C-42F0-A051-8F82C8BD0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9d3bd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523520" y="1828800"/>
            <a:ext cx="39042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623200" y="1828800"/>
            <a:ext cx="39042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95B88F-3D3E-4A63-ACD6-0C95D3ED0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9d3b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D134F5-885D-49BA-865C-AEECC6716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066320" y="-360"/>
            <a:ext cx="807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73C2FD-10E8-406A-A74F-B13F6942D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9d3bd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23520" y="1828800"/>
            <a:ext cx="39042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623200" y="1828800"/>
            <a:ext cx="39042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23520" y="4257000"/>
            <a:ext cx="39042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E6BA35-02F7-4F4D-9FA4-368E3A45D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9d3bd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523520" y="182880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9d3bd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520" y="1828800"/>
            <a:ext cx="39042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623200" y="1828800"/>
            <a:ext cx="39042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623200" y="4257000"/>
            <a:ext cx="39042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C28493-A81C-4016-8D9C-4EF8CEED4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9d3bd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520" y="1828800"/>
            <a:ext cx="39042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623200" y="1828800"/>
            <a:ext cx="39042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523520" y="4257000"/>
            <a:ext cx="80010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BA8133-2781-4A05-8659-FED19DFFD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9d3bd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3520" y="1828800"/>
            <a:ext cx="80010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523520" y="4257000"/>
            <a:ext cx="80010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29C5E2-F90B-41C6-9304-9F0D9B0DA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9d3bd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523520" y="1828800"/>
            <a:ext cx="39042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623200" y="1828800"/>
            <a:ext cx="39042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523520" y="4257000"/>
            <a:ext cx="39042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623200" y="4257000"/>
            <a:ext cx="39042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7BBDBC-A0C0-4A35-AB78-B42277AD5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9d3bd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523520" y="1828800"/>
            <a:ext cx="25761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228920" y="1828800"/>
            <a:ext cx="25761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934320" y="1828800"/>
            <a:ext cx="25761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523520" y="4257000"/>
            <a:ext cx="25761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228920" y="4257000"/>
            <a:ext cx="25761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934320" y="4257000"/>
            <a:ext cx="25761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4F6561-06C4-4CEE-9F76-0D6A58ECF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9d3bd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82880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9d3bd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3520" y="1828800"/>
            <a:ext cx="39042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623200" y="1828800"/>
            <a:ext cx="39042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9d3b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66320" y="-360"/>
            <a:ext cx="807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9d3bd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523520" y="1828800"/>
            <a:ext cx="39042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623200" y="1828800"/>
            <a:ext cx="39042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523520" y="4257000"/>
            <a:ext cx="39042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9d3bd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523520" y="1828800"/>
            <a:ext cx="39042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623200" y="1828800"/>
            <a:ext cx="39042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623200" y="4257000"/>
            <a:ext cx="39042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9d3bd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523520" y="1828800"/>
            <a:ext cx="39042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623200" y="1828800"/>
            <a:ext cx="39042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523520" y="4257000"/>
            <a:ext cx="80010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9c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c18345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1219320"/>
            <a:ext cx="4724280" cy="152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6630840"/>
            <a:ext cx="3505320" cy="227160"/>
          </a:xfrm>
          <a:prstGeom prst="rect">
            <a:avLst/>
          </a:prstGeom>
          <a:gradFill rotWithShape="0">
            <a:gsLst>
              <a:gs pos="0">
                <a:srgbClr val="674c00"/>
              </a:gs>
              <a:gs pos="50000">
                <a:srgbClr val="e0a500"/>
              </a:gs>
              <a:gs pos="100000">
                <a:srgbClr val="674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3560" y="228600"/>
            <a:ext cx="8380440" cy="762120"/>
          </a:xfrm>
          <a:prstGeom prst="rect">
            <a:avLst/>
          </a:prstGeom>
          <a:gradFill rotWithShape="0">
            <a:gsLst>
              <a:gs pos="0">
                <a:srgbClr val="462f17"/>
              </a:gs>
              <a:gs pos="100000">
                <a:srgbClr val="9966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9d3bd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e9d3bd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523520" y="182880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9903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bg-BG" sz="1400" spc="-1" strike="noStrike">
                <a:solidFill>
                  <a:srgbClr val="000000"/>
                </a:solidFill>
                <a:latin typeface="Times New Roman"/>
              </a:rPr>
              <a:t>С+С Аутоматион” ООД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9c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e7d"/>
              </a:gs>
              <a:gs pos="5000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9d3bd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e9d3bd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2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3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4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3D828-9134-46A3-B37D-64CDADE3E33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9c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e9d3bd"/>
                </a:solidFill>
                <a:latin typeface="Times New Roman"/>
              </a:rPr>
              <a:t>ПОЛИКОНТ - Складове</a:t>
            </a:r>
            <a:endParaRPr b="1" lang="en-US" sz="4400" spc="-1" strike="noStrike">
              <a:solidFill>
                <a:srgbClr val="e9d3bd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843200" y="1599840"/>
            <a:ext cx="768168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000" spc="-1" strike="noStrike">
                <a:solidFill>
                  <a:srgbClr val="e9d3bd"/>
                </a:solidFill>
                <a:latin typeface="Times New Roman"/>
              </a:rPr>
              <a:t>СЪДЪРЖАНИЕ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Times New Roman"/>
              </a:rPr>
              <a:t>Кратко описание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e9d3bd"/>
                </a:solidFill>
                <a:latin typeface="Times New Roman"/>
              </a:rPr>
              <a:t>Функционални възможност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e9d3bd"/>
                </a:solidFill>
                <a:latin typeface="Times New Roman"/>
              </a:rPr>
              <a:t>Акцент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0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28195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gradFill rotWithShape="0">
            <a:gsLst>
              <a:gs pos="0">
                <a:srgbClr val="583c1f"/>
              </a:gs>
              <a:gs pos="100000">
                <a:srgbClr val="c18345"/>
              </a:gs>
            </a:gsLst>
            <a:lin ang="10800000"/>
          </a:gra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9c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e9d3bd"/>
                </a:solidFill>
                <a:latin typeface="Times New Roman"/>
              </a:rPr>
              <a:t>ПОЛИКОНТ - Складове</a:t>
            </a:r>
            <a:endParaRPr b="1" lang="en-US" sz="4400" spc="-1" strike="noStrike">
              <a:solidFill>
                <a:srgbClr val="e9d3bd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447920" y="1752120"/>
            <a:ext cx="769608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 u="sng">
                <a:solidFill>
                  <a:srgbClr val="000000"/>
                </a:solidFill>
                <a:uFillTx/>
                <a:latin typeface="Times New Roman"/>
              </a:rPr>
              <a:t>КРАТКО ОПИСАНИЕ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imes New Roman"/>
              </a:rPr>
              <a:t>Модул “Складове” автоматизира обработката на данни за движението на стоково – материалните потоци на предприятието. Той служи за изготвяне и отпечатване на складовите документи, за следене на приходите и разходите на материални запаси, за оценяване на разходите. Информацията от разходните документи може да се използва за автоматично създаване на документи за продажба в ПОЛИКОНТ – Фактури. Съществува възможност за автоматичното контиране на всички видове складови документи в ПОЛИКОНТ – Счетоводство.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9c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e9d3bd"/>
                </a:solidFill>
                <a:latin typeface="Times New Roman"/>
              </a:rPr>
              <a:t>ПОЛИКОНТ - Складове</a:t>
            </a:r>
            <a:endParaRPr b="1" lang="en-US" sz="4400" spc="-1" strike="noStrike">
              <a:solidFill>
                <a:srgbClr val="e9d3bd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828800" y="1752120"/>
            <a:ext cx="73152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000" spc="-1" strike="noStrike">
                <a:solidFill>
                  <a:srgbClr val="e9d3bd"/>
                </a:solidFill>
                <a:latin typeface="Times New Roman"/>
              </a:rPr>
              <a:t>СЪДЪРЖАНИЕ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e9d3bd"/>
                </a:solidFill>
                <a:latin typeface="Times New Roman"/>
              </a:rPr>
              <a:t>Кратко описание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Times New Roman"/>
              </a:rPr>
              <a:t>Функционални възможност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e9d3bd"/>
                </a:solidFill>
                <a:latin typeface="Times New Roman"/>
              </a:rPr>
              <a:t>Акцент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0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09480" y="403848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gradFill rotWithShape="0">
            <a:gsLst>
              <a:gs pos="0">
                <a:srgbClr val="583c1f"/>
              </a:gs>
              <a:gs pos="100000">
                <a:srgbClr val="c18345"/>
              </a:gs>
            </a:gsLst>
            <a:lin ang="10800000"/>
          </a:gra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9c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e9d3bd"/>
                </a:solidFill>
                <a:latin typeface="Times New Roman"/>
              </a:rPr>
              <a:t>ПОЛИКОНТ - Складове</a:t>
            </a:r>
            <a:endParaRPr b="1" lang="en-US" sz="4400" spc="-1" strike="noStrike">
              <a:solidFill>
                <a:srgbClr val="e9d3bd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523520" y="182880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 u="sng">
                <a:solidFill>
                  <a:srgbClr val="000000"/>
                </a:solidFill>
                <a:uFillTx/>
                <a:latin typeface="Times New Roman"/>
              </a:rPr>
              <a:t>СКЛАДОВИ ОПЕРАЦИ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imes New Roman"/>
              </a:rPr>
              <a:t>Салдо за склад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imes New Roman"/>
              </a:rPr>
              <a:t>Приход за склад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imes New Roman"/>
              </a:rPr>
              <a:t>Разход за склад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imes New Roman"/>
              </a:rPr>
              <a:t>Производство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imes New Roman"/>
              </a:rPr>
              <a:t>Трансфер между складове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imes New Roman"/>
              </a:rPr>
              <a:t>Брак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9c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e9d3bd"/>
                </a:solidFill>
                <a:latin typeface="Times New Roman"/>
              </a:rPr>
              <a:t>ПОЛИКОНТ - Складове</a:t>
            </a:r>
            <a:endParaRPr b="1" lang="en-US" sz="4400" spc="-1" strike="noStrike">
              <a:solidFill>
                <a:srgbClr val="e9d3bd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523520" y="182880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 u="sng">
                <a:solidFill>
                  <a:srgbClr val="000000"/>
                </a:solidFill>
                <a:uFillTx/>
                <a:latin typeface="Times New Roman"/>
              </a:rPr>
              <a:t>РАБОТА С ДОКУМЕНТ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imes New Roman"/>
              </a:rPr>
              <a:t>Връзка между документи и складови операции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imes New Roman"/>
              </a:rPr>
              <a:t>Въвеждане на документи в дневници по складови операции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imes New Roman"/>
              </a:rPr>
              <a:t>Печат на документи само с количества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imes New Roman"/>
              </a:rPr>
              <a:t>Печат на документи с количества и стойности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imes New Roman"/>
              </a:rPr>
              <a:t>Доставно – складови разходи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imes New Roman"/>
              </a:rPr>
              <a:t>Автоматично оценяване на разходните документи по среднопретеглена цена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9c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e9d3bd"/>
                </a:solidFill>
                <a:latin typeface="Times New Roman"/>
              </a:rPr>
              <a:t>ПОЛИКОНТ - Складове</a:t>
            </a:r>
            <a:endParaRPr b="1" lang="en-US" sz="4400" spc="-1" strike="noStrike">
              <a:solidFill>
                <a:srgbClr val="e9d3bd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76201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 u="sng">
                <a:solidFill>
                  <a:srgbClr val="000000"/>
                </a:solidFill>
                <a:uFillTx/>
                <a:latin typeface="Times New Roman"/>
              </a:rPr>
              <a:t>СПРАВК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imes New Roman"/>
              </a:rPr>
              <a:t>Хронологични описи на складови документи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imes New Roman"/>
              </a:rPr>
              <a:t>Оборотни ведомости за склад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imes New Roman"/>
              </a:rPr>
              <a:t>Справки по видове складови операции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imes New Roman"/>
              </a:rPr>
              <a:t>Справки за приходи и разходи по контрагенти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imes New Roman"/>
              </a:rPr>
              <a:t>Справки за приходи и разходи по номенклатури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imes New Roman"/>
              </a:rPr>
              <a:t>Справки за произведени изделия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imes New Roman"/>
              </a:rPr>
              <a:t>Справки за избрано звено или цялата организация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9c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e9d3bd"/>
                </a:solidFill>
                <a:latin typeface="Times New Roman"/>
              </a:rPr>
              <a:t>ПОЛИКОНТ - Складове</a:t>
            </a:r>
            <a:endParaRPr b="1" lang="en-US" sz="4400" spc="-1" strike="noStrike">
              <a:solidFill>
                <a:srgbClr val="e9d3bd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843200" y="1828800"/>
            <a:ext cx="768168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000" spc="-1" strike="noStrike">
                <a:solidFill>
                  <a:srgbClr val="e9d3bd"/>
                </a:solidFill>
                <a:latin typeface="Times New Roman"/>
              </a:rPr>
              <a:t>СЪДЪРЖАНИЕ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e9d3bd"/>
                </a:solidFill>
                <a:latin typeface="Times New Roman"/>
              </a:rPr>
              <a:t>Кратко описание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e9d3bd"/>
                </a:solidFill>
                <a:latin typeface="Times New Roman"/>
              </a:rPr>
              <a:t>Функционални възможност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Times New Roman"/>
              </a:rPr>
              <a:t>Акцент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0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85800" y="51055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gradFill rotWithShape="0">
            <a:gsLst>
              <a:gs pos="0">
                <a:srgbClr val="583c1f"/>
              </a:gs>
              <a:gs pos="100000">
                <a:srgbClr val="c18345"/>
              </a:gs>
            </a:gsLst>
            <a:lin ang="10800000"/>
          </a:gra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9c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e9d3bd"/>
                </a:solidFill>
                <a:latin typeface="Times New Roman"/>
              </a:rPr>
              <a:t>ПОЛИКОНТ - Складове</a:t>
            </a:r>
            <a:endParaRPr b="1" lang="en-US" sz="4400" spc="-1" strike="noStrike">
              <a:solidFill>
                <a:srgbClr val="e9d3bd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523520" y="182880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 u="sng">
                <a:solidFill>
                  <a:srgbClr val="000000"/>
                </a:solidFill>
                <a:uFillTx/>
                <a:latin typeface="Times New Roman"/>
              </a:rPr>
              <a:t>АКЦЕНТ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imes New Roman"/>
              </a:rPr>
              <a:t>Автоматично оценяване по среднопретеглена цена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imes New Roman"/>
              </a:rPr>
              <a:t>Възможност за проследяване на документите, формирали количествата и стойностите във всяка справка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imes New Roman"/>
              </a:rPr>
              <a:t>Работа с отчетни периоди с продължителност от месец до година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imes New Roman"/>
              </a:rPr>
              <a:t>Възможност за паралелна работа в няколко отчетни периода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imes New Roman"/>
              </a:rPr>
              <a:t>Защита от промени в документите чрез приключване на период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imes New Roman"/>
              </a:rPr>
              <a:t>Автоматично генериране на салда за следващ период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imes New Roman"/>
              </a:rPr>
              <a:t>Използване на складовите документи за създаване на фактури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imes New Roman"/>
              </a:rPr>
              <a:t>Автоматично контиране на складовите документи в ПОЛИКОНТ - Счетоводство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2T13:19:32Z</dcterms:created>
  <dc:creator>Ivan Giurov</dc:creator>
  <dc:description/>
  <dc:language>en-US</dc:language>
  <cp:lastModifiedBy>Ivan Giurov</cp:lastModifiedBy>
  <dcterms:modified xsi:type="dcterms:W3CDTF">2005-10-05T11:52:14Z</dcterms:modified>
  <cp:revision>61</cp:revision>
  <dc:subject/>
  <dc:title>Project Overview</dc:title>
</cp:coreProperties>
</file>