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lick to move the slide</a:t>
            </a: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220-DA43-4691-B5DE-826DD0E38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91B-DE2D-4CEB-8012-F8D6F25743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2CD1-B23B-47B6-A11A-DCBCB6E8F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901C-F8CB-4F3A-8D93-4C61EF819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500-31CA-4019-8E6B-22BB7CC0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7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41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7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41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1540-9545-4D18-8978-69818774F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E3FEE-B036-4F6A-AD52-08DB3845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3034-A4B7-48D2-8CBC-0893C2A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BF90-EAE9-405D-AF35-D672CAC8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6DA7-E717-40A1-B03D-53174FD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85560-716C-45B0-93E2-694CD234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880" y="-3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0DF6C-FB8E-40D6-9302-6A13A5AE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04AA-49CC-47C6-AA11-3A38C5C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FDE0-E1D9-4425-AF9A-20EC27311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19768-E1A7-490A-8298-B2700AC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8378-FA68-4451-900A-E196B2C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BDB9B-B85B-4599-8A68-BCF78A8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B660-A16F-4F02-981C-D14E5D09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7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041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907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7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041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D025C-2054-4222-8F22-E1E9040C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5386-1577-46D7-87FD-B3E2296B0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A72E-EB90-408C-B0B5-5FEAD1E9E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898E-3E20-4DCB-8FCB-BC4856874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6880" y="-3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780D-EAFF-4A5C-AEAE-F96DDDE7E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6067-F720-46FD-8857-8651A07D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8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C2A6-CE44-4610-BF3C-4615F6BE3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8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AB84-F1D2-4E9F-BDB2-A463870D7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228600"/>
            <a:ext cx="83804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lick to edit the title text format</a:t>
            </a: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6854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3DFE-08A2-4E0A-A3CF-0CF1A8B65E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lick to edit the title text format</a:t>
            </a: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AC2E-0BF0-409B-9D1F-909B953C6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-plus-c@polikont.bg" TargetMode="External"/><Relationship Id="rId3" Type="http://schemas.openxmlformats.org/officeDocument/2006/relationships/hyperlink" Target="mailto:c-plus-c@polikont.bg" TargetMode="External"/><Relationship Id="rId4" Type="http://schemas.openxmlformats.org/officeDocument/2006/relationships/hyperlink" Target="mailto:c-plus-c@polikont.bg" TargetMode="External"/><Relationship Id="rId5" Type="http://schemas.openxmlformats.org/officeDocument/2006/relationships/hyperlink" Target="mailto:c-plus-c@polikont.bg" TargetMode="External"/><Relationship Id="rId6" Type="http://schemas.openxmlformats.org/officeDocument/2006/relationships/hyperlink" Target="http://www.polikont.bg/" TargetMode="External"/><Relationship Id="rId7" Type="http://schemas.openxmlformats.org/officeDocument/2006/relationships/hyperlink" Target="http://www.polikont.bg/" TargetMode="External"/><Relationship Id="rId8" Type="http://schemas.openxmlformats.org/officeDocument/2006/relationships/hyperlink" Target="http://www.polikont.bg/" TargetMode="External"/><Relationship Id="rId9" Type="http://schemas.openxmlformats.org/officeDocument/2006/relationships/hyperlink" Target="http://www.polikont.bg/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4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1012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3aa73"/>
                </a:solidFill>
                <a:latin typeface="Arial"/>
              </a:rPr>
              <a:t>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304920" y="-228600"/>
            <a:ext cx="967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33"/>
                </a:solidFill>
                <a:latin typeface="Times New Roman"/>
              </a:rPr>
              <a:t>Интегрирана система за управление на фирмената дейно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3392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imes New Roman"/>
              </a:rPr>
              <a:t>София 1618, ул. “Любляна” 46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                 </a:t>
            </a:r>
            <a:r>
              <a:rPr b="0" lang="bg-BG" sz="3200" spc="-1" strike="noStrike">
                <a:solidFill>
                  <a:srgbClr val="ff9933"/>
                </a:solidFill>
                <a:latin typeface="Times New Roman"/>
              </a:rPr>
              <a:t>тел.(02)955 56 87, 8180 2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-mail:</a:t>
            </a:r>
            <a:r>
              <a:rPr b="1" lang="en-US" sz="3200" spc="-1" strike="noStrike">
                <a:solidFill>
                  <a:srgbClr val="f6e868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c-plus-c@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polikont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http://www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polikont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bg</a:t>
            </a:r>
            <a:r>
              <a:rPr b="0" lang="bg-BG" sz="3200" spc="-1" strike="noStrike">
                <a:solidFill>
                  <a:srgbClr val="ff9933"/>
                </a:solidFill>
                <a:latin typeface="Times New Roman"/>
              </a:rPr>
              <a:t>                                            Продукт на “С+С Аутоматион” О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770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 u="sng">
                <a:solidFill>
                  <a:srgbClr val="ff9933"/>
                </a:solidFill>
                <a:uFillTx/>
                <a:latin typeface="Times New Roman"/>
              </a:rPr>
              <a:t>Вземете стратегическо решение!</a:t>
            </a:r>
            <a:endParaRPr b="1" lang="en-US" sz="36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00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ИНИМАЛНИ ИЗИСК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оцесор 48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16 М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онито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вободно дисково пространство 100 М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перационна система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9x/2kx/Me/XP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ДУЛ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четоводство, Фактури, Складове, Производство, Кореспонденция, Кадри, Работна заплата, Платежни документи, Граждански догово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БАВ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алута, Щатни разписания, Държавни служители, Корекции, НОИ – Осигурени лица, НОИ - Уведомления, Банки, Статистика, Нормена заработка, Разходни центрове, Командировки, Дневник на операторските действ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ДОБСТВА ПРИ РА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ързо и лесно търсене и позициониране в големи таблиц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нструменти за създаване на потребителски справ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едпечатен преглед на справк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ечат на всеки екра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Експорт в над 15 файлови форма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онтекстнозависима помощна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деждни средства за тест и архивиране на базата от данн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ДИМ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нтегрирана система, работеща с обща база дан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рвър – бърз, стабилен и с богати функционални възмож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Еднократно въвеждане на информация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за  всички моду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триктен контрол на въвежданата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разширяване на функционалността на система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Управление на достъпа до информация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нтерфейс към други прогр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абота в мрежа или през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НЕДРЯВА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Ефективна технология за бързо внедряване – от 1 ден до 1 мес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ърз старт чрез зареждане на данни от предишни прогр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аза с набор от основни данни и допълнителни настрой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Възможност за инсталация и настройка от самите потребите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Качествено обуч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истемна помощ и консулт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ДРЪЖ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епрекъснато усъвършенстване на продук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ови версии при всяка промяна в законодателство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Развитие по спецификация на клиент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Актуализация по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оддръжка на мяс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Телефонни консултации в различни приложни об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Електронен вестник и новин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НОВИ ПРЕДИМ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Безплате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bird SQL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ървъ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стъпки при закупуване на два или повече моду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стъпки при замяна на конкурентен продук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6 месеца безплатни актуализ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инимален годишен абонам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Минимално доплащане при многофирмен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Цена, независеща от обема на обработваната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Отлично съотношение цена - каче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d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 u="sng">
                <a:solidFill>
                  <a:srgbClr val="ff9933"/>
                </a:solidFill>
                <a:uFillTx/>
                <a:latin typeface="CopperCyr"/>
              </a:rPr>
              <a:t>ПОЛИКОНТ</a:t>
            </a:r>
            <a:endParaRPr b="1" lang="en-US" sz="4000" spc="-1" strike="noStrike" u="sng">
              <a:solidFill>
                <a:srgbClr val="ff9933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КУС НА ПРЕДЛОЖЕНИЕТ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Функционална завършен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Простота при експлоатация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Удобен потребителски интерфей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Изключително надеждна рабо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Липса на ограничения в обема на обработваната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Ефективна поддръ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3:19:32Z</dcterms:created>
  <dc:creator>Ivan Giurov</dc:creator>
  <dc:description/>
  <dc:language>en-US</dc:language>
  <cp:lastModifiedBy>Ivan Giurov</cp:lastModifiedBy>
  <dcterms:modified xsi:type="dcterms:W3CDTF">2005-09-12T06:33:01Z</dcterms:modified>
  <cp:revision>44</cp:revision>
  <dc:subject/>
  <dc:title>Project Overview</dc:title>
</cp:coreProperties>
</file>