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92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31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92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31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DE8-EB12-4DE1-9B56-8FF7A68D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113-4A42-4777-BF95-AA23FCCA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FCE-ECA9-4245-9205-F0A4D480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D29-CB16-41FA-86C3-8377F8E5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BEC-A479-43B1-896F-AB1E7E56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0"/>
            <a:ext cx="6858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3B7-D722-4532-B377-DBB1557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FE7-3FB3-4037-B981-C414BF1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0A9-ACA8-4213-8063-6D5787F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DBE-554E-4350-AEDB-F10D966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3C6-D54E-429B-BC34-6F992BA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29B-AD10-4548-93C4-768F3EC6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492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31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492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31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39B-4B68-4996-870B-51B22DD8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0"/>
            <a:ext cx="6858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21591600">
            <a:off x="380880" y="0"/>
            <a:ext cx="152424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47242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553080"/>
            <a:ext cx="3505320" cy="304920"/>
          </a:xfrm>
          <a:prstGeom prst="rect">
            <a:avLst/>
          </a:prstGeom>
          <a:gradFill rotWithShape="0">
            <a:gsLst>
              <a:gs pos="0">
                <a:srgbClr val="484600"/>
              </a:gs>
              <a:gs pos="50000">
                <a:srgbClr val="f2ec00"/>
              </a:gs>
              <a:gs pos="100000">
                <a:srgbClr val="48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304920"/>
            <a:ext cx="8380440" cy="761760"/>
          </a:xfrm>
          <a:prstGeom prst="rect">
            <a:avLst/>
          </a:prstGeom>
          <a:gradFill rotWithShape="0">
            <a:gsLst>
              <a:gs pos="0">
                <a:srgbClr val="545200"/>
              </a:gs>
              <a:gs pos="100000">
                <a:srgbClr val="2db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e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e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883-0091-41E1-98E2-7675A131F44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7911-065A-495E-903F-5975934D5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00739c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ef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262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дул “Платежни документи” автоматизира процеса по подготовката и изчислението, изготвянето и отпечатването на касовите и банковите платежни документи. Притежава богат набор от настройки и конфигурации, които максимално улесняват и прецизират работата на потребителите. Използва данните и резултатите от ПОЛИКОНТ-Работна заплата и ПОЛИКОНТ-Фактури. Всички видове платежни документи могат да се контират автоматично в ПОЛИКОНТ-Счетоводство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00739c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39c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ef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2ec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262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ФИГУРАЦИИ И НАСТРОЙКИ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банкови клон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анкови сметки за фирма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контрагентите и банковите им смет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персона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Шаблони на банкови документи с контраг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Шаблони на банкови документи с персона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Шаблони на касови документи с контраг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Шаблони на касови документи с персона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Зареждане на служебни шабло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ъздаване на аналитичност към документ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ОВЕ ПЛАТЕЖНИ ДОКУМЕНТИ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иходни касови орде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азходни касови орде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латежни нареждания за разплащане с бюдже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латежни нареждания за разплащане с контраг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латежни нареждания за разплащане с персона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носни бележки за разплащане с бюдже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носни бележки за разплащане с контраг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носни бележки за разплащане с персона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латежни иск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реждания - разпис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С ДОКУМЕНТИТЕ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невник на платежни документи по вид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веждане на данни за платежни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генериране на платежни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печатване на касови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печатване на банкови документи върху стандартни блан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готвяне на файлове за “Мултикеш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ef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00739c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39c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739c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ef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262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2ec00"/>
                </a:solidFill>
                <a:latin typeface="Times New Roman"/>
              </a:rPr>
              <a:t>ПОЛИКОНТ – Платежни документи</a:t>
            </a:r>
            <a:endParaRPr b="1" lang="en-US" sz="3600" spc="-1" strike="noStrike">
              <a:solidFill>
                <a:srgbClr val="f2e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ЦЕНТИ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отпечатване на група от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разплащане чрез файл за “Мултикеш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отребителски справки върху дневника на платежните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изчисление на суми и генериране на платежни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ръзка с резултатите от изчисленията на ПОЛИКОНТ – Работна запла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вличане на стойности по фактури от ПОЛИКОНТ - Фактур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в ПОЛИКОНТ - Счетоводство</a:t>
            </a:r>
            <a:r>
              <a:rPr b="0" lang="bg-BG" sz="2000" spc="-1" strike="noStrike">
                <a:solidFill>
                  <a:srgbClr val="f2ec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Giurov</cp:lastModifiedBy>
  <dcterms:modified xsi:type="dcterms:W3CDTF">2005-10-06T06:35:02Z</dcterms:modified>
  <cp:revision>80</cp:revision>
  <dc:subject/>
  <dc:title>PowerPoint Presentation</dc:title>
</cp:coreProperties>
</file>