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63C-B851-4EF4-A1B0-3005C337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DAB-B0DB-4016-8C75-CD7643FB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A66-37E3-4135-A19D-427E07F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246-9789-4665-B2D0-CEAEB970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1DF-B1AA-437A-8B7E-18B5083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EC7-E30F-43B7-9F15-BD38488E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B8D-75C1-4BA3-8DDE-D351975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5EB-EA93-415B-8F50-D6E2AF4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CCC-D917-47C2-B704-57B4B16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647-9701-415A-AC67-1114C45A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D24-5696-442B-9960-BF491D6E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72F-48DF-4E70-AC00-5FDA9BBE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7fa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47242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553080"/>
            <a:ext cx="3505320" cy="304920"/>
          </a:xfrm>
          <a:prstGeom prst="rect">
            <a:avLst/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3049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1da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FCE-7176-4A9A-BD37-14441A456D6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1CB-451A-410C-BA3E-454970ADE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ffc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f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НОИ – УВЕДОМЛ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егистрация на промените в трудово – правните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изготвяне на файл с данни за уведомления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ечат на придружително писм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ечат на уведомл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предадените дан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Лиценз от НОИ за предаваните дан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СПРАВК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9f"/>
                </a:solidFill>
                <a:uFillTx/>
                <a:latin typeface="Times New Roman"/>
              </a:rPr>
              <a:t>За служители и кандидати</a:t>
            </a: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 – пълно досие, придобити квалификации и ценз, история на трудовата кариера, развитие в ранг на държавен служител, извършени командировки, по пълната картотек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9f"/>
                </a:solidFill>
                <a:uFillTx/>
                <a:latin typeface="Times New Roman"/>
              </a:rPr>
              <a:t>По структура към дата</a:t>
            </a: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 – незаети места, регистър на държавните служители, рангове, езикова квалификация, печат на пълни досие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9f"/>
                </a:solidFill>
                <a:uFillTx/>
                <a:latin typeface="Times New Roman"/>
              </a:rPr>
              <a:t>По структура  за период</a:t>
            </a: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 -  новопостъпили, преназначени и напуснали служители, закрити звена, присъствени фор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9f"/>
                </a:solidFill>
                <a:uFillTx/>
                <a:latin typeface="Times New Roman"/>
              </a:rPr>
              <a:t>За настъпващи събития </a:t>
            </a: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 - прекласиране, изтичане срока на договори, отпуски, отсъствия и друг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ffc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АКЦЕНТ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Електронни картотеки и досие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аксимална автоматизация на работата с документ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генериране на документи при индексация, промяна на заплати, прекла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ъхраняване на кадровите данни за неограничено вр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изготвяне на печатни образи на документит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и по структурата и щатното разписание към всяка дат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окументи по служебно правоотнош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и за ценз, квалификации и атеста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требителски справки по картотек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КРАТКО ОПИСАНИЕ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одулът автоматизира дейността по изграждането на структурата и щатното разписание, поддържането на картотеката на назначените и напусналите служители, подбора на кандидатите, изготвянето и отпечатването на документите по трудово и служебно правоотношение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ffc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f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ffcc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ВЪВЕЖДАНЕ И ПРОМЯНА НА ДАНН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разования и образователни степе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Учебни заведения, специалности, специализа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валификации, езици, звания, научни степени и зв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ангове на държавни служите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лъжности по ЕКДА и НКП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Таблици за кла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атегория администрация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ИЗГРАЖДАНЕ НА ЙЕРАРХИЧНА СТРУКТУРА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абота със структурата на предприятието към всяка да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Неограничен брой ни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ъздаване на нови структурни зве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криване на съществуващи зве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история на структурните проме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ПОДДЪРЖАНЕ НА КАРТОТЕКА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артотека на кандидати, назначени и напуснали служите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Имена, ЕГН, снимка, пол и семейно положение, месторожд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дресни и паспортни дан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анни за ценз и квалифик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анг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анни за семействот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РАБОТА С ДОКУМЕНТ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Личн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окументи за ценз и квалифик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окументи за трудово и извънтрудово правоотнош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окументи за държавни служите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рослужено време, трудов и служебен ста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раткосрочни и дългосрочни командиров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оциално осигуряв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тсъств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Банкови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ЩАТНИ РАЗПИСАНИЯ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ткриване и закриване на щатни мес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пределяне на длъжност и длъжностна характеристик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история на щатното разписа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изготвяне на поименно щатно разписа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печатни и таблични форми на поименното щатно разписа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лъжностни разпис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9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ffcc00"/>
                </a:solidFill>
                <a:latin typeface="Times New Roman"/>
              </a:rPr>
              <a:t>ПОЛИКОНТ - Кадри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ДЪРЖАВНИ СЛУЖИТЕЛ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поведи за назначаване и преназначав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поведи за заплати и присъждане на ран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повед за прекратяване на служебното правоотнош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специфични правила за изчисление на заплат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редставително облекло и хра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развитие в ранг и по зве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притежаван ранг към да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егистър на държавните служите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именно щатно разписа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Giurov</cp:lastModifiedBy>
  <dcterms:modified xsi:type="dcterms:W3CDTF">2005-09-15T12:00:31Z</dcterms:modified>
  <cp:revision>51</cp:revision>
  <dc:subject/>
  <dc:title>PowerPoint Presentation</dc:title>
</cp:coreProperties>
</file>