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D223D-ACE8-4FBC-B015-D3C11567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19778-52A2-44EF-81FF-2779569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4DF0B-2705-45FC-A19C-B9715036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C3CEF-888E-4503-A087-C9326226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D3817-40FB-4DEA-BAD6-EE079E3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F2F2D-E6BC-46D8-97FA-F5199693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CAEAB-B76F-4B5D-8638-70F3F16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4028-DED1-49D6-8374-66359E3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FD7B5-9D71-4617-B223-B317AF2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D3516-DF58-48A8-8C0B-6110155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EA2FE-FE92-4204-9834-2FEC8DC0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004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76560" y="175212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004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76560" y="4060800"/>
            <a:ext cx="2453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ACBB-7243-463A-8D3C-D4E45F7B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8440" y="406080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8440" y="1752120"/>
            <a:ext cx="37184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7620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e8b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00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8FD-5DC8-4EAB-ABF9-51F2276F8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ЛУ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алутни курсове за парични единици по да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ласификация на сметки за валутн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писание на валутн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числение и контиране на текущи курсови разли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ериодична оценка на валутни смет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алутни оборотни ведом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–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a041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аксимална автоматизация на счетоводния проце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стройки и конфигурации, достъпни за потребител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и за многопотребителска рабо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зареждане на готови сметкопланове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Защита от случайни промени в данни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щни механизми за получаване на справочна информа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и за работа в няколко отчетни период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 “Счетоводство” автоматизира финансово – счетоводната дейност на фирмата и повишава ефективността на счетоводния труд. Той улеснява текущите и приключвателните счетоводни записвания, отчитането по ДДС, валутните операции, касовите и банковите плащания, оценяването на материалните запаси, отчитането на вземанията и задълженията. Служи за изготвяне на оперативни справки и финансови отчети, подпомага проследяването на операциите, анализа и управлението на предприятието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a041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a041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ФИГУРАЦИИ И НАСТРОЙ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фигуриране на индивидуален сметкопла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стройка на аналитичността на сметки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фигуриране на структурата и състава на финансовите отче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здаване на типови счетоводн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стройка на начина на контиране на информацията от другите модул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стройка на механизма за автоматично приключване на смет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ЧЕТОВОДНО ОТЧИТА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ъчно контиране чрез съставяне на счетоводни стати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тиране чрез използване на типов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тиране чрез използване на групови опер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рекапитулациите от модул “Работна заплата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документи от модул “Граждански договор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документи от модул “Фактури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контиране на документи от модул “Складове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приключване на смет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енериране на салда  за следващ отчетен пери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Д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читане по ДД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невник на покупки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невник на продажби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екларация за ДД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готвяне на файлове за ДД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ТЕРИАЛНИ ЗАПА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ласификация на сметки за материални запас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числение на среднопретеглени це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втоматично оценяване на сметки за материални запас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боротни ведомости по номенклатури с цени и количе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ЧЕТОВОДНИ СПРАВ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Хронологични дневниц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боротни ведом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боротни ведомости за смет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налитични оборотни ведом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лавна книг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респонденция по дебита и кредита на смет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окументи за дебитен и кредитен оборот на смет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Хронология на смет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Генератор на справки по смет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c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99"/>
                </a:solidFill>
                <a:latin typeface="Times New Roman"/>
              </a:rPr>
              <a:t>ПОЛИКОНТ - Счетоводство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ЧЕТОВОДНИ  ОТЧЕ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чет за приходите и разходи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аричен пото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обствен капита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асов отч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09-15T14:25:24Z</dcterms:modified>
  <cp:revision>50</cp:revision>
  <dc:subject/>
  <dc:title>Project Overview</dc:title>
</cp:coreProperties>
</file>