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7620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28440" y="406080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00040" y="175212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76560" y="175212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00040" y="406080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76560" y="406080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95F5D-FDCE-4C21-A0DF-70401EEC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C0759-F36B-4FE0-8D42-4723EA32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C6A5F-4695-4A04-A913-BA7E8CEF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1FED7-5BF4-465B-B7D3-A575C633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B9970-B002-4027-BB8F-06FDF5EB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-36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2A3C8-E6E7-4605-9CAD-981EC981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9E0B9-5C4D-4F7B-8684-688413C2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28440" y="406080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9FA6E-6559-48BA-93A5-8D5015EC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7620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491C3-4AFE-49EC-B439-667C8553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7620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8B49D-D226-430A-B363-AE9925F5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428440" y="406080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1CBC3-BFCE-4731-83A0-F05CCD33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00040" y="175212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76560" y="175212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00040" y="406080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76560" y="406080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83BDD-B582-4588-8BD3-39C42FA3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320" y="-36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28440" y="406080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7620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b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ffd10b"/>
              </a:gs>
              <a:gs pos="100000">
                <a:srgbClr val="7560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219320"/>
            <a:ext cx="472428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30840"/>
            <a:ext cx="3505320" cy="227160"/>
          </a:xfrm>
          <a:prstGeom prst="rect">
            <a:avLst/>
          </a:prstGeom>
          <a:gradFill rotWithShape="0">
            <a:gsLst>
              <a:gs pos="0">
                <a:srgbClr val="756005"/>
              </a:gs>
              <a:gs pos="50000">
                <a:srgbClr val="ffd10b"/>
              </a:gs>
              <a:gs pos="100000">
                <a:srgbClr val="75600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560" y="228600"/>
            <a:ext cx="8380440" cy="762120"/>
          </a:xfrm>
          <a:prstGeom prst="rect">
            <a:avLst/>
          </a:prstGeom>
          <a:gradFill rotWithShape="0">
            <a:gsLst>
              <a:gs pos="0">
                <a:srgbClr val="322408"/>
              </a:gs>
              <a:gs pos="100000">
                <a:srgbClr val="ffb92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С+С Аутоматион” ООД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b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430A-311C-47F2-A503-4F71EAD09B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b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cc"/>
                </a:solidFill>
                <a:latin typeface="Times New Roman"/>
              </a:rPr>
              <a:t>ПОЛИКОНТ - Фактури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imes New Roman"/>
              </a:rPr>
              <a:t>СЪДЪРЖАНИЕ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Кратко описание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cc"/>
                </a:solidFill>
                <a:latin typeface="Times New Roman"/>
              </a:rPr>
              <a:t>Функционални възможности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cc"/>
                </a:solidFill>
                <a:latin typeface="Times New Roman"/>
              </a:rPr>
              <a:t>Акценти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b92d"/>
                </a:solidFill>
                <a:latin typeface="Times New Roman"/>
              </a:rPr>
              <a:t>                  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819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ffcc"/>
              </a:gs>
              <a:gs pos="100000">
                <a:srgbClr val="ffb92d"/>
              </a:gs>
            </a:gsLst>
            <a:lin ang="108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b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cc"/>
                </a:solidFill>
                <a:latin typeface="Times New Roman"/>
              </a:rPr>
              <a:t>ПОЛИКОНТ - Фактури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АТКО ОПИСАНИЕ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Модул “Фактури” автоматизира дейността по изготвянето и отпечатване на документите, свързани с продажбите на фирмата: фактури, проформи, известия. Поддържа богат набор от справки за реализацията по различни признаци и разрези. Модулът позволява създаването на фактури на базата на складови документи от ПОЛИКОНТ – Складове. Съществува възможност за автоматично контиране на документите за продажбите в ПОЛИКОНТ – Счетоводство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b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cc"/>
                </a:solidFill>
                <a:latin typeface="Times New Roman"/>
              </a:rPr>
              <a:t>ПОЛИКОНТ - Фактури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imes New Roman"/>
              </a:rPr>
              <a:t>СЪДЪРЖАНИЕ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cc"/>
                </a:solidFill>
                <a:latin typeface="Times New Roman"/>
              </a:rPr>
              <a:t>Кратко описание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Функционални възможности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cc"/>
                </a:solidFill>
                <a:latin typeface="Times New Roman"/>
              </a:rPr>
              <a:t>Акценти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66"/>
                </a:solidFill>
                <a:latin typeface="Times New Roman"/>
              </a:rPr>
              <a:t>                  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657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ffcc"/>
              </a:gs>
              <a:gs pos="100000">
                <a:srgbClr val="ffb92d"/>
              </a:gs>
            </a:gsLst>
            <a:lin ang="108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b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cc"/>
                </a:solidFill>
                <a:latin typeface="Times New Roman"/>
              </a:rPr>
              <a:t>ПОЛИКОНТ - Фактури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И ДАННИ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Мерни и парични единици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Групи номенклатури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Номенклатури и ценоразпис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Банкови клонове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Банкови сметки, длъжностни лица, структура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Контрагенти, банкови сметки, длъжностни лица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b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cc"/>
                </a:solidFill>
                <a:latin typeface="Times New Roman"/>
              </a:rPr>
              <a:t>ПОЛИКОНТ - Фактури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ОКУМЕНТИ ЗА ПРОДАЖБИ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Опростени фактури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Данъчни фактури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Дебитни и кредитни известия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Проформи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ъздаване на фактури от складови документи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ъздаване на фактури от проформи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Анулиране на документи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b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cc"/>
                </a:solidFill>
                <a:latin typeface="Times New Roman"/>
              </a:rPr>
              <a:t>ПОЛИКОНТ - Фактури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ПРАВКИ ЗА РЕАЛИЗАЦИЯТА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Описи на фактури, данъчни фактури, проформи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правки по контрагенти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правки по контрагенти и номенклатури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правки по групи номенклатури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правки по складове и номенклатури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правки по номенклатури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правки по парични единици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правки за връзки между фактури и складови документи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b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cc"/>
                </a:solidFill>
                <a:latin typeface="Times New Roman"/>
              </a:rPr>
              <a:t>ПОЛИКОНТ - Фактури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imes New Roman"/>
              </a:rPr>
              <a:t>СЪДЪРЖАНИЕ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cc"/>
                </a:solidFill>
                <a:latin typeface="Times New Roman"/>
              </a:rPr>
              <a:t>Кратко описание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cc"/>
                </a:solidFill>
                <a:latin typeface="Times New Roman"/>
              </a:rPr>
              <a:t>Функционални възможности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Акценти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66"/>
                </a:solidFill>
                <a:latin typeface="Times New Roman"/>
              </a:rPr>
              <a:t>                  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4572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d10b"/>
              </a:gs>
              <a:gs pos="100000">
                <a:srgbClr val="eaeaea"/>
              </a:gs>
            </a:gsLst>
            <a:lin ang="108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b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cc"/>
                </a:solidFill>
                <a:latin typeface="Times New Roman"/>
              </a:rPr>
              <a:t>ПОЛИКОНТ - Фактури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КЦЕНТИ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Автоматизиране на изчислението на стойностите в документите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Цени и стойности във валута и изчисление на левова равностойност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Търговски отстъпки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Изготвяне на справките за произволен период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Възможност за проследяване на всяка стойност в справките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Автоматично контиране на фактури в ПОЛИКОНТ - Счетоводство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3:19:32Z</dcterms:created>
  <dc:creator>Ivan Giurov</dc:creator>
  <dc:description/>
  <dc:language>en-US</dc:language>
  <cp:lastModifiedBy>Ivan Giurov</cp:lastModifiedBy>
  <dcterms:modified xsi:type="dcterms:W3CDTF">2005-10-05T13:39:42Z</dcterms:modified>
  <cp:revision>63</cp:revision>
  <dc:subject/>
  <dc:title>Project Overview</dc:title>
</cp:coreProperties>
</file>