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92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31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92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31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24E-A3BD-474A-9F6C-5D9BA57A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C48-C574-4C2C-BE0B-C01674E0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E9B-854D-4DC4-B452-911F6915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3CC-99C2-47AB-AD6C-5D060581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6E0-BD2B-4E2C-8709-CB69FC66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0"/>
            <a:ext cx="6858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691-FD1E-4C00-AF0A-AF28146C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B90-E974-4174-B8BF-EA89FD5E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8FD-E944-4D84-94F0-71379B56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326-6C3B-49A8-AF4F-69026704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194-D389-4A6D-837E-8BD4B516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010-23D9-4E3C-B70A-AB7B3B88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492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31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492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31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114-16A0-40C6-87F6-AA12E4E5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0"/>
            <a:ext cx="6858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172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172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2ed0e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472428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553080"/>
            <a:ext cx="3505320" cy="3049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+С Аутоматион” О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304920"/>
            <a:ext cx="8380440" cy="761760"/>
          </a:xfrm>
          <a:prstGeom prst="rect">
            <a:avLst/>
          </a:prstGeom>
          <a:gradFill rotWithShape="0">
            <a:gsLst>
              <a:gs pos="0">
                <a:srgbClr val="545200"/>
              </a:gs>
              <a:gs pos="100000">
                <a:srgbClr val="cec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D8C6-D617-40DE-B74F-FFECE57EADD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9BB3-EA81-410B-ABBD-37A37D82A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 -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9f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cc00"/>
              </a:gs>
              <a:gs pos="100000">
                <a:srgbClr val="261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НОРМЕНА ЗАРАБОТКА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награждение на база произведени номенклатур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награждение при бригадна организац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награждение  за стокооборо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награждение при поръчкова систе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Индивидуални коефициенти на участие, нощен труд, престо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БАНКИ</a:t>
            </a:r>
            <a:r>
              <a:rPr b="1" lang="bg-BG" sz="28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ддържане на индивидуален банков интерфей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генериране на файлове за начална регистрац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генериране на файлове за текущи разплаща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ръзка с Мултике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Шаблони за разплаща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ридружителни пис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можност за плащане по сметки в различни бан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СТАТИСТИК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редносписъчен брой за месец и перио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наетите лиц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начислените средст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движението на персона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отработени и неотработени д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заетите лица без трудови правоотнош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свободните места по категории персон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списъчен персонал по разходни центров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структурата на заплат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по категории персон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НОИ – ОСИГУРЕНИ ЛИЦ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изготвяне на магнитен носител с основни дан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изготвяне на магнитен носител с коригирани дан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можност за предаване на данни за целия персонал или част от нег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можност за изготвяне на магнитни носители за минали период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тпечатване на придружително писмо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Лиценз от НОИ за изготвените магнитни носители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КОРЕ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ъхраняване на ведомости и рекапитулации в оригиналния им ви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веждане на документи за предходни период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преизчисление на заплати и възникнал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тразяване на възникнал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можност за коригиране след извършен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и за възникнали и отразен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ключване във ведомости и рекапитулации на изчислените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Коригиращи записи за НО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РАЗХОДНИ ЦЕНТРОВ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ефиниране на разходни центров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вързване на служителите с разходни центров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Групова промяна на пера за служители от разходен центъ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Рекапитулации по разходни центров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Рекапитулации по разходни центрове, социално осигуряване и възра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татистически справки по разходни центров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cc00"/>
              </a:gs>
              <a:gs pos="100000">
                <a:srgbClr val="261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АКЦЕНТИ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ангардна концепция, отговаряща на конкретните нужди на клиент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Функционална завършеност и цяло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Максимална автоматизация  на изчислителния проц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Богати възможности за целите на фирмения анализ и управл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лгоритми, гарантиращи максимално бързодействие и прецизност на изчисления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ддържане на алгоритмите в съответствие с нормативната база в отчетните период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АКЦЕНТИ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бвързване на алгоритмите за изчисление на заплатите с кадровите докумен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свързване на документите с отчетни периоди посредством началните и крайните им да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фициален календар, фирмен график и личен календа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Богат набор от служебни пер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Конфигуриране на потребителски пера и алгоритми за изчисление на запла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Мощен генератор на рекапитула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Едновременна работа с няколко отчетни пери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</a:t>
            </a: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 –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ffff9f"/>
                </a:solidFill>
                <a:uFillTx/>
                <a:latin typeface="Times New Roman"/>
              </a:rPr>
              <a:t>КРАТКО ОПИС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Модулът автоматизира изчислението на работните заплати, изготвянето и отпечатването на фишове, ведомости, рекапитулации, справки и служебни бележки. Функционалните добавки решават проблемите, свързани със заплащането на норма, корекциите за минали периоди,</a:t>
            </a:r>
            <a:r>
              <a:rPr b="0" lang="en-US" sz="2000" spc="-1" strike="noStrike">
                <a:solidFill>
                  <a:srgbClr val="ffff9f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изготвянето на статистическите справки, разплащането с персонала по банков път, изчислението и превеждането на осигурителните вноски и данъците, предаването на данните за осигурените лица в НОИ и разпределянето на средствата по разходни центрове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СЪДЪРЖ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9f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Кратко описа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Функционални възмож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Акцен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cc00"/>
              </a:gs>
              <a:gs pos="100000">
                <a:srgbClr val="261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</a:t>
            </a:r>
            <a:r>
              <a:rPr b="1" lang="bg-BG" sz="4400" spc="-1" strike="noStrike">
                <a:solidFill>
                  <a:srgbClr val="ffffcc"/>
                </a:solidFill>
                <a:latin typeface="Times New Roman"/>
              </a:rPr>
              <a:t> –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АВТОМАТИЧНО ИЗЧИСЛЕНИЕ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сновни и допълнителни възнаграждения по трудово и служебно правоотнош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награждения на изпълнителни директори и съдружниц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рослужено време, социални разходи, здравни и социални осигуровки, отсъств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Годишно преизчисляване на ДО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безщетения по КТ, ЗДС, ЗСВ и други специални зако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безщетения по КС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Нощен и извънреден труд, работа на официален празни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ВЕДОМОСТИ</a:t>
            </a:r>
            <a:r>
              <a:rPr b="1" lang="bg-BG" sz="28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ансови ведомости  – обща, по звена и по касиер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Разплащателни ведомости – обща, по звена и по касиер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едомости за пер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Хоризонтални ведомос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Фишов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Фишове за персонален номер и перио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екларация при плащане на работните запла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Месечна и годишна декларация за бюджетни организа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Декларация по параграфите на ДОО за бюджетни организа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РЕКАПИТУЛАЦИИ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Начисл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Удръж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бщо по месец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месеци и персон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бщо по персон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персонал и по месец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 персонален номер и перио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ГЕНЕРАТОР НА РЕКАПИТУЛАЦИИ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бщ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персон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 персонален номер и перио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социално осигуряване и възра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разходен център, социално осигуряване и възра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разходен център и категория персон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звена с йерарх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звена и категория персон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звена и длъжнос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о смет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И още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ОТСЪСТВИЯ</a:t>
            </a:r>
            <a:r>
              <a:rPr b="1" lang="bg-BG" sz="2400" spc="-1" strike="noStrike">
                <a:solidFill>
                  <a:srgbClr val="ffff9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алда и права за платени и неплатени отпус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ледене на граници за непрекъснато използване или годишни граници при отсъствия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Присъствени форм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и по стандарт 1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тсъствия и обезщетения по КС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Автоматично разделяне на дни за сметка на осигурителя при временна  неработоспособно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Описи на болнични листов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Справка за изчисление на обезщетения по боле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ac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bg-BG" sz="3600" spc="-1" strike="noStrike">
                <a:solidFill>
                  <a:srgbClr val="ffffcc"/>
                </a:solidFill>
                <a:latin typeface="Times New Roman"/>
              </a:rPr>
              <a:t>ПОЛИКОНТ – Работна заплат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9f"/>
                </a:solidFill>
                <a:uFillTx/>
                <a:latin typeface="Times New Roman"/>
              </a:rPr>
              <a:t>СЛУЖЕБНИ БЕЛЕЖ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 временна неработоспособно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 бюрата по тру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 семейни помощи за дец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 дохо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За ДОД при напускане и за годишно изравняв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Възможност за конфигуриране от потребител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f"/>
                </a:solidFill>
                <a:latin typeface="Times New Roman"/>
              </a:rPr>
              <a:t>Удостоверения за банки при кредитиране и поръчителств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Giurov</cp:lastModifiedBy>
  <dcterms:modified xsi:type="dcterms:W3CDTF">2005-09-15T12:43:41Z</dcterms:modified>
  <cp:revision>85</cp:revision>
  <dc:subject/>
  <dc:title>PowerPoint Presentation</dc:title>
</cp:coreProperties>
</file>