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620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7620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7184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28440" y="1752120"/>
            <a:ext cx="37184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7184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428440" y="4060800"/>
            <a:ext cx="37184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4534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00040" y="1752120"/>
            <a:ext cx="24534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76560" y="1752120"/>
            <a:ext cx="24534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4534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00040" y="4060800"/>
            <a:ext cx="24534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76560" y="4060800"/>
            <a:ext cx="24534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90872C-02E2-4DC8-AA57-ECCF811B5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17CAE4-9200-4A75-A3CF-F457FD16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786B1A-C7D4-48B0-B8CF-64F4E38E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7184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428440" y="1752120"/>
            <a:ext cx="37184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4E315B-9C88-4968-BE2E-7F53EE9A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46B85F-4898-451E-BBF3-6104C4F2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320" y="-36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BC1CB-1B9F-4B3E-8E2E-DE61AFD2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7184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8440" y="1752120"/>
            <a:ext cx="37184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7184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8DA9A4-F681-42CB-8ED4-01DC9100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7184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8440" y="1752120"/>
            <a:ext cx="37184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428440" y="4060800"/>
            <a:ext cx="37184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EFCCF-3BC3-45AA-836F-1B5805B5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7184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28440" y="1752120"/>
            <a:ext cx="37184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7620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564F5-D88B-4BCA-BEC0-42D26BB3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620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7620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98774-3A83-471D-B5C3-79F3A491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7184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28440" y="1752120"/>
            <a:ext cx="37184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7184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428440" y="4060800"/>
            <a:ext cx="37184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6A4721-8282-46B3-B4A8-E8A7303EA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4534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00040" y="1752120"/>
            <a:ext cx="24534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76560" y="1752120"/>
            <a:ext cx="24534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4534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100040" y="4060800"/>
            <a:ext cx="24534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76560" y="4060800"/>
            <a:ext cx="24534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BDA14-156F-4579-9D57-4B50DA60D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7184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428440" y="1752120"/>
            <a:ext cx="37184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320" y="-36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7184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28440" y="1752120"/>
            <a:ext cx="37184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7184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7184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28440" y="1752120"/>
            <a:ext cx="37184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428440" y="4060800"/>
            <a:ext cx="37184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7184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428440" y="1752120"/>
            <a:ext cx="37184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7620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219320"/>
            <a:ext cx="472428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30840"/>
            <a:ext cx="3505320" cy="22716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3560" y="228600"/>
            <a:ext cx="8380440" cy="762120"/>
          </a:xfrm>
          <a:prstGeom prst="rect">
            <a:avLst/>
          </a:prstGeom>
          <a:gradFill rotWithShape="0">
            <a:gsLst>
              <a:gs pos="0">
                <a:srgbClr val="175e5e"/>
              </a:gs>
              <a:gs pos="100000">
                <a:srgbClr val="2cb3b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5235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990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С+С Аутоматион” ООД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6AD8-3CBA-4BF4-BFB7-114EBF7AC9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cc"/>
                </a:solidFill>
                <a:latin typeface="Times New Roman"/>
              </a:rPr>
              <a:t>ПОЛИКОНТ – Граждански договори</a:t>
            </a: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828800" y="175212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Times New Roman"/>
              </a:rPr>
              <a:t>СЪДЪРЖАНИЕ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Кратко описание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Функционални възможности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Акценти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66"/>
                </a:solidFill>
                <a:latin typeface="Times New Roman"/>
              </a:rPr>
              <a:t>                  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2819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gradFill rotWithShape="0">
            <a:gsLst>
              <a:gs pos="0">
                <a:srgbClr val="000000"/>
              </a:gs>
              <a:gs pos="100000">
                <a:srgbClr val="ffff99"/>
              </a:gs>
            </a:gsLst>
            <a:lin ang="108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cc"/>
                </a:solidFill>
                <a:latin typeface="Times New Roman"/>
              </a:rPr>
              <a:t>ПОЛИКОНТ – Граждански договори</a:t>
            </a: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РАТКО ОПИСАНИЕ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Модулът автоматизира дейността по изготвянето и отпечатването на гражданските договори, сметките за изплатени суми, свързаните с тях документи и справки, както и предаването на данни към НОИ и данъчната администрация.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cc"/>
                </a:solidFill>
                <a:latin typeface="Times New Roman"/>
              </a:rPr>
              <a:t>ПОЛИКОНТ – Граждански договори</a:t>
            </a: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828800" y="1752120"/>
            <a:ext cx="7315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Times New Roman"/>
              </a:rPr>
              <a:t>СЪДЪРЖАНИЕ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Кратко описание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Функционални възможности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Акценти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66"/>
                </a:solidFill>
                <a:latin typeface="Times New Roman"/>
              </a:rPr>
              <a:t>                  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3657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gradFill rotWithShape="0">
            <a:gsLst>
              <a:gs pos="0">
                <a:srgbClr val="000000"/>
              </a:gs>
              <a:gs pos="100000">
                <a:srgbClr val="ffff99"/>
              </a:gs>
            </a:gsLst>
            <a:lin ang="108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cc"/>
                </a:solidFill>
                <a:latin typeface="Times New Roman"/>
              </a:rPr>
              <a:t>ПОЛИКОНТ – Граждански договори</a:t>
            </a: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ОКУМЕНТИ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Граждански договор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Констативен протокол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Декларация за облагаем и осигурителен доход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Сметка за изплатени суми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Служебна бележка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cc"/>
                </a:solidFill>
                <a:latin typeface="Times New Roman"/>
              </a:rPr>
              <a:t>ПОЛИКОНТ – Граждански договори</a:t>
            </a: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ПРАВКИ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Справка за изплатени суми по граждански договор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Справка за дължими осигуровки от възложителя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Месечна справка по изплатени сметки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Годишна справка за физически лица, получили доходи,  различни от трудови правоотношения и пенсии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cc"/>
                </a:solidFill>
                <a:latin typeface="Times New Roman"/>
              </a:rPr>
              <a:t>ПОЛИКОНТ – Граждански договори</a:t>
            </a: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828800" y="175212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Times New Roman"/>
              </a:rPr>
              <a:t>СЪДЪРЖАНИЕ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Кратко описание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Функционални възможности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Акценти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66"/>
                </a:solidFill>
                <a:latin typeface="Times New Roman"/>
              </a:rPr>
              <a:t>                  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4572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gradFill rotWithShape="0">
            <a:gsLst>
              <a:gs pos="0">
                <a:srgbClr val="000000"/>
              </a:gs>
              <a:gs pos="100000">
                <a:srgbClr val="ffff99"/>
              </a:gs>
            </a:gsLst>
            <a:lin ang="108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cc"/>
                </a:solidFill>
                <a:latin typeface="Times New Roman"/>
              </a:rPr>
              <a:t>ПОЛИКОНТ – Граждански договори</a:t>
            </a: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КЦЕНТИ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Възможност за автоматично контиране на сметките за изплатени суми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Изготвяне на справки чрез генератора на рекапитулации в многобройни разрези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Изготвяне на файл с данни за Декларация 1 за НОИ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Изготвяне на файл – годишна справка за данъчните служби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2T13:19:32Z</dcterms:created>
  <dc:creator>Ivan Giurov</dc:creator>
  <dc:description/>
  <dc:language>en-US</dc:language>
  <cp:lastModifiedBy>Ivan Giurov</cp:lastModifiedBy>
  <dcterms:modified xsi:type="dcterms:W3CDTF">2005-10-05T14:27:27Z</dcterms:modified>
  <cp:revision>59</cp:revision>
  <dc:subject/>
  <dc:title>Project Overview</dc:title>
</cp:coreProperties>
</file>