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81532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4060800"/>
            <a:ext cx="81532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888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888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7600" y="175212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04120" y="175212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406080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47600" y="406080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04120" y="406080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B52EB-1CC5-42D2-8D7A-B239059B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9284F-F754-4879-86F3-6FAE5464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E5C1B-63F7-493A-B9E6-8F9DE319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6888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6DCE4-39D6-4D54-B165-E4B35100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CFD83-CC14-4DC9-B9D9-9F678995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9BDFF-0084-4A6E-BF1A-AEE93563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888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72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47C0D-1B03-4CE6-8A0B-B23CDBF2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888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6888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00B6D-90E7-406B-9F70-CBEE6F0D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888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4060800"/>
            <a:ext cx="81532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62BBB-53AA-4B26-9FC4-2BA1D23E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81532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720" y="4060800"/>
            <a:ext cx="81532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2D0E0-C6AD-4F7E-A156-D3495E62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888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6888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50CC4-56F4-468F-ACC8-3749ABBA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47600" y="175212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04120" y="175212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720" y="406080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47600" y="406080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04120" y="406080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466EB-2048-4349-A58B-5A494672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888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888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888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888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888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4060800"/>
            <a:ext cx="81532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5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19320"/>
            <a:ext cx="472428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50000">
                <a:srgbClr val="fbe4ae"/>
              </a:gs>
              <a:gs pos="100000">
                <a:srgbClr val="fae3b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560" y="228600"/>
            <a:ext cx="8380440" cy="7621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С+С Аутоматион” О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5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8BFC-276A-436A-B7D9-F46D77C7A9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5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cbcbcb"/>
                </a:solidFill>
                <a:latin typeface="Times New Roman"/>
              </a:rPr>
              <a:t>         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ОЛИКОНТ - Маркетинг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724c00"/>
                </a:solidFill>
                <a:latin typeface="Times New Roman"/>
              </a:rPr>
              <a:t>СЪДЪРЖ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724c00"/>
                </a:solidFill>
                <a:latin typeface="Times New Roman"/>
              </a:rPr>
              <a:t>Функционални възмож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724c00"/>
                </a:solidFill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819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342300"/>
              </a:gs>
              <a:gs pos="100000">
                <a:srgbClr val="724c00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5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cbcbcb"/>
                </a:solidFill>
                <a:latin typeface="Times New Roman"/>
              </a:rPr>
              <a:t>  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ОЛИКОНТ - Маркетинг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Модул “Маркетинг” подпомага кореспонденцията и контактите  с контрагентите. Позволява планиране на дейността на маркетинговите специалисти и анализ на резултатите от не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5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cbcbcb"/>
                </a:solidFill>
                <a:latin typeface="Times New Roman"/>
              </a:rPr>
              <a:t>  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ОЛИКОНТ - Маркетинг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724c00"/>
                </a:solidFill>
                <a:latin typeface="Times New Roman"/>
              </a:rPr>
              <a:t>СЪДЪРЖ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724c00"/>
                </a:solidFill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Функционални възмож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724c00"/>
                </a:solidFill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657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724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5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ОЛИКОНТ - Маркетинг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И ДАНН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Населени места, обла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идове рекламни матери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редмет на дейнос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Данни за контраген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Длъжностни лица за контраген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Роли на длъжностните лиц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Банкови смет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Телефонен указате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5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ОЛИКОНТ - Маркетинг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НТАКТИ И КОРЕСПОНДЕНЦ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Информация за осъществените контак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одене на бележки за проведени телефонни разговор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оддържане на информация за кореспонденция по контраген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Отпечатване на пликов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Отпечатване на етикети за пликов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Данни за изпратени рекламни матери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Описи на препоръчани писм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5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ОЛИКОНТ - Маркетинг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ДУКТИ И АБОНАМЕН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Данни за продадени продукти по контрагенти и да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Данни за абонаментно поддържан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окана за абонаментно поддържане на продук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Изчисление на месечен абонамен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Изчисление на абонамент към да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5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ОЛИКОНТ - Маркетинг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ПРАВ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правка за предстоящи контакти към да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История на контактит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Кореспонденция за контраген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Кореспонденция по да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отребителски справки по населено място, предмет на дейнос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отребителски справки по продук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правка за изтичащи абонаментни договор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5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ОЛИКОНТ - Маркетинг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724c00"/>
                </a:solidFill>
                <a:latin typeface="Times New Roman"/>
              </a:rPr>
              <a:t>СЪДЪРЖ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724c00"/>
                </a:solidFill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724c00"/>
                </a:solidFill>
                <a:latin typeface="Times New Roman"/>
              </a:rPr>
              <a:t>Функционални възмож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4572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724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5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ОЛИКОНТ - Маркетинг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ланиране и организация на контактите с контрагентит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ъзможност за проследяване на продуктите по контрагенти и да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ъзможности за създаване на потребителски справки за контакти и кореспонден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роследяване на резултатите от рекламна камп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реглед на проведените разговори и хронология на осъществените контак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Анализ на резултатите от маркетинговите стратег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3:19:32Z</dcterms:created>
  <dc:creator>Ivan Giurov</dc:creator>
  <dc:description/>
  <dc:language>en-US</dc:language>
  <cp:lastModifiedBy>Ivan Giurov</cp:lastModifiedBy>
  <dcterms:modified xsi:type="dcterms:W3CDTF">2005-10-05T13:39:06Z</dcterms:modified>
  <cp:revision>48</cp:revision>
  <dc:subject/>
  <dc:title>Project Overview</dc:title>
</cp:coreProperties>
</file>