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5B9-47FE-4BC4-B944-FAEBFE81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76E-84A8-4C38-B33D-AD8C7DB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A5A-CDFE-433E-A868-B2B85389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BDB-B42A-455D-9E10-B13D4D1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0C9-3A4A-4B02-AAF0-B7FAF030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010-6998-436C-84FD-1BFF94D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2761-6ECE-4655-9EDF-9057F59D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2705-B1B4-46F1-9900-5470D351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6B0-CF71-4D14-9CB2-5BC2C6F0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C49-FC30-4864-A8EB-6CB4B70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3D89-16BC-4F73-8AE1-920FF64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3CA-29B1-49A6-801E-FB51FC1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124-53C3-4F26-BB21-C660728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5C81-E934-4B05-B29C-32C5B5B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B77E-2828-4E62-8194-786F541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9EBA-BF5F-4087-B8AE-F3E5D16A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15E0-E108-4A2B-9F95-C21AAE4D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DD9-363F-4953-9ED6-4C7C4590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1AB-B080-44E3-BAEB-F3EBB19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970-F821-4CAB-A17E-6739BB88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28C-EE8A-4C5D-AABD-9D5CEB1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0C2-7396-4F61-9797-90B561A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4EE-F51B-4A9F-B05B-0D3F7FA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E08-73B0-416A-B2F0-4C9BC51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42E-B838-4B7A-B972-959DB6B02D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DC3-7F5B-42E6-9AA0-1031AA9904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5.xml"/><Relationship Id="rId23" Type="http://schemas.openxmlformats.org/officeDocument/2006/relationships/slide" Target="slide25.xml"/><Relationship Id="rId24" Type="http://schemas.openxmlformats.org/officeDocument/2006/relationships/slide" Target="slide25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" Target="slide31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.xml"/><Relationship Id="rId32" Type="http://schemas.openxmlformats.org/officeDocument/2006/relationships/slide" Target="slide3.xml"/><Relationship Id="rId33" Type="http://schemas.openxmlformats.org/officeDocument/2006/relationships/slide" Target="slide3.xml"/><Relationship Id="rId34" Type="http://schemas.openxmlformats.org/officeDocument/2006/relationships/slide" Target="slide3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3.xml"/><Relationship Id="rId40" Type="http://schemas.openxmlformats.org/officeDocument/2006/relationships/slide" Target="slide3.xml"/><Relationship Id="rId41" Type="http://schemas.openxmlformats.org/officeDocument/2006/relationships/slide" Target="slide3.xml"/><Relationship Id="rId4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r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7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0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Darren Furno</cp:lastModifiedBy>
  <dcterms:modified xsi:type="dcterms:W3CDTF">2007-07-17T01:35:14Z</dcterms:modified>
  <cp:revision>19</cp:revision>
  <dc:subject/>
  <dc:title>Are You Smarter  Than a 5th Grader?</dc:title>
</cp:coreProperties>
</file>