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5th%20Grader%20Short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E05D-1B49-4A77-A46A-9A009FFD8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FA08-D966-4FF0-A4A7-A0391493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8E50-AE86-48C3-BB9B-168ED3A5E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129E-FC65-4BC0-A3A7-FEF51FE8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CFAE-5CA2-4FA2-A943-26FCD461D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A5A1-08C8-4DAF-B5B7-CB23F610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6ED9-8AAE-45AA-B633-AA432882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3DAB-0E52-49EC-8847-29F8C814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8EAE-BB6E-478B-9FDF-2604CDE6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BA22-888D-4D92-9A19-D5AC0974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B174-F58B-4ACE-BA11-6EA615CF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7358-F33C-4759-997C-B27D3B69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D1FF-C3BF-43CB-849C-17AD6242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D1F0-41D2-4B07-9A62-1826F59F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D3BB-2C38-4221-B245-3A855003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08FF-F186-40C7-B286-63E192E41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3EC2-BCF4-4CE5-8B5B-61822F771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6B00-2D19-446A-9C6D-4F94E108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CC04-1CAD-42F3-B744-7B5D44D5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E07F-C58B-4941-8927-AEE834AA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FF53-C827-41AE-937F-C9FC825F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90ED-CE7B-4C49-B7B0-02A50609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004D-7583-4BC2-9AF9-8ABD0811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0C64-384D-450C-8AC2-46D07A81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66000"/>
          </a:bodyPr>
          <a:p>
            <a:pPr marL="226080" indent="-226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90320" indent="-1886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754200" indent="-15084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055880" indent="-15084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357560" indent="-15084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3F8D-4F11-42AE-AD7E-03A33B9D083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97EC-A2EF-41E0-9B52-8B7C63F45FE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5th%20Grader%20Short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10.xml"/><Relationship Id="rId9" Type="http://schemas.openxmlformats.org/officeDocument/2006/relationships/slide" Target="slide10.xml"/><Relationship Id="rId10" Type="http://schemas.openxmlformats.org/officeDocument/2006/relationships/slide" Target="slide10.xml"/><Relationship Id="rId11" Type="http://schemas.openxmlformats.org/officeDocument/2006/relationships/slide" Target="slide13.xml"/><Relationship Id="rId12" Type="http://schemas.openxmlformats.org/officeDocument/2006/relationships/slide" Target="slide13.xml"/><Relationship Id="rId13" Type="http://schemas.openxmlformats.org/officeDocument/2006/relationships/slide" Target="slide13.xml"/><Relationship Id="rId14" Type="http://schemas.openxmlformats.org/officeDocument/2006/relationships/slide" Target="slide16.xml"/><Relationship Id="rId15" Type="http://schemas.openxmlformats.org/officeDocument/2006/relationships/slide" Target="slide16.xml"/><Relationship Id="rId16" Type="http://schemas.openxmlformats.org/officeDocument/2006/relationships/slide" Target="slide16.xml"/><Relationship Id="rId17" Type="http://schemas.openxmlformats.org/officeDocument/2006/relationships/slide" Target="slide19.xml"/><Relationship Id="rId18" Type="http://schemas.openxmlformats.org/officeDocument/2006/relationships/slide" Target="slide19.xml"/><Relationship Id="rId19" Type="http://schemas.openxmlformats.org/officeDocument/2006/relationships/slide" Target="slide22.xml"/><Relationship Id="rId20" Type="http://schemas.openxmlformats.org/officeDocument/2006/relationships/slide" Target="slide22.xml"/><Relationship Id="rId21" Type="http://schemas.openxmlformats.org/officeDocument/2006/relationships/slide" Target="slide22.xml"/><Relationship Id="rId22" Type="http://schemas.openxmlformats.org/officeDocument/2006/relationships/slide" Target="slide25.xml"/><Relationship Id="rId23" Type="http://schemas.openxmlformats.org/officeDocument/2006/relationships/slide" Target="slide25.xml"/><Relationship Id="rId24" Type="http://schemas.openxmlformats.org/officeDocument/2006/relationships/slide" Target="slide25.xml"/><Relationship Id="rId25" Type="http://schemas.openxmlformats.org/officeDocument/2006/relationships/slide" Target="slide28.xml"/><Relationship Id="rId26" Type="http://schemas.openxmlformats.org/officeDocument/2006/relationships/slide" Target="slide28.xml"/><Relationship Id="rId27" Type="http://schemas.openxmlformats.org/officeDocument/2006/relationships/slide" Target="slide28.xml"/><Relationship Id="rId28" Type="http://schemas.openxmlformats.org/officeDocument/2006/relationships/slide" Target="slide31.xml"/><Relationship Id="rId29" Type="http://schemas.openxmlformats.org/officeDocument/2006/relationships/slide" Target="slide31.xml"/><Relationship Id="rId30" Type="http://schemas.openxmlformats.org/officeDocument/2006/relationships/slide" Target="slide31.xml"/><Relationship Id="rId31" Type="http://schemas.openxmlformats.org/officeDocument/2006/relationships/slide" Target="slide3.xml"/><Relationship Id="rId32" Type="http://schemas.openxmlformats.org/officeDocument/2006/relationships/slide" Target="slide3.xml"/><Relationship Id="rId33" Type="http://schemas.openxmlformats.org/officeDocument/2006/relationships/slide" Target="slide3.xml"/><Relationship Id="rId34" Type="http://schemas.openxmlformats.org/officeDocument/2006/relationships/slide" Target="slide3.xml"/><Relationship Id="rId35" Type="http://schemas.openxmlformats.org/officeDocument/2006/relationships/slide" Target="slide3.xml"/><Relationship Id="rId36" Type="http://schemas.openxmlformats.org/officeDocument/2006/relationships/slide" Target="slide3.xml"/><Relationship Id="rId37" Type="http://schemas.openxmlformats.org/officeDocument/2006/relationships/slide" Target="slide3.xml"/><Relationship Id="rId38" Type="http://schemas.openxmlformats.org/officeDocument/2006/relationships/slide" Target="slide3.xml"/><Relationship Id="rId39" Type="http://schemas.openxmlformats.org/officeDocument/2006/relationships/slide" Target="slide3.xml"/><Relationship Id="rId40" Type="http://schemas.openxmlformats.org/officeDocument/2006/relationships/slide" Target="slide3.xml"/><Relationship Id="rId41" Type="http://schemas.openxmlformats.org/officeDocument/2006/relationships/slide" Target="slide3.xml"/><Relationship Id="rId4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4648320" cy="3603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"/>
          <p:cNvSpPr txBox="1"/>
          <p:nvPr/>
        </p:nvSpPr>
        <p:spPr>
          <a:xfrm rot="20578200">
            <a:off x="761760" y="4191120"/>
            <a:ext cx="754380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Your Classroom Edition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3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3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4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4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5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5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6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re You Smar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an a 5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6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7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7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8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8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9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9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500"/>
            </a:gs>
            <a:gs pos="50000">
              <a:srgbClr val="408000"/>
            </a:gs>
            <a:gs pos="100000">
              <a:srgbClr val="020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e You Smarter Than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228600"/>
            <a:ext cx="1600200" cy="457200"/>
          </a:xfrm>
          <a:prstGeom prst="rect">
            <a:avLst/>
          </a:prstGeom>
          <a:solidFill>
            <a:srgbClr val="0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1,0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16765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5th Grade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16765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5th Grade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64780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4th Grade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264780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4th Grade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1944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3rd Grade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6" action="ppaction://hlinksldjump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361944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3rd Grade Topic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8" action="ppaction://hlinksldjump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459108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9" action="ppaction://hlinksldjump"/>
              </a:rPr>
              <a:t>2nd Grade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0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1" action="ppaction://hlinksldjump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459108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2" action="ppaction://hlinksldjump"/>
              </a:rPr>
              <a:t>2nd Grade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3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4" action="ppaction://hlinksldjump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55627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5" action="ppaction://hlinksldjump"/>
              </a:rPr>
              <a:t>1st Grade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6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7" action="ppaction://hlinksldjump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10080" y="55627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8" action="ppaction://hlinksldjump"/>
              </a:rPr>
              <a:t>1st Grade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9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0" action="ppaction://hlinksldjump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5240" y="80028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1" action="ppaction://hlinksldjump"/>
              </a:rPr>
              <a:t>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13874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2" action="ppaction://hlinksldjump"/>
              </a:rPr>
              <a:t>3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97316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3" action="ppaction://hlinksldjump"/>
              </a:rPr>
              <a:t>17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25606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4" action="ppaction://hlinksldjump"/>
              </a:rPr>
              <a:t>1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31478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5" action="ppaction://hlinksldjump"/>
              </a:rPr>
              <a:t>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373392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6" action="ppaction://hlinksldjump"/>
              </a:rPr>
              <a:t>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43210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7" action="ppaction://hlinksldjump"/>
              </a:rPr>
              <a:t>1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490680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8" action="ppaction://hlinksldjump"/>
              </a:rPr>
              <a:t>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549432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9" action="ppaction://hlinksldjump"/>
              </a:rPr>
              <a:t>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40" action="ppaction://hlinksldjump"/>
          </p:cNvPr>
          <p:cNvSpPr/>
          <p:nvPr/>
        </p:nvSpPr>
        <p:spPr>
          <a:xfrm>
            <a:off x="152280" y="608184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1" action="ppaction://hlinksldjump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1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1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illion Dollar Questio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Grade Level Topic 1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s for Play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1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2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20:28:24Z</dcterms:created>
  <dc:creator>Gary Bodenschatz</dc:creator>
  <dc:description/>
  <dc:language>en-US</dc:language>
  <cp:lastModifiedBy>Darren Furno</cp:lastModifiedBy>
  <dcterms:modified xsi:type="dcterms:W3CDTF">2007-07-17T01:35:14Z</dcterms:modified>
  <cp:revision>19</cp:revision>
  <dc:subject/>
  <dc:title>Are You Smarter  Than a 5th Grader?</dc:title>
</cp:coreProperties>
</file>