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ny%20Grader%20II.wav" ContentType="audio/x-wav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074-5DC7-40C3-97E7-21FE20CA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345-C75C-4D65-95EB-8404C14E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E1F-778A-4A7B-9E78-664C0CE5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7F4-1489-4BFB-8D85-4810844D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2D95-2DEB-45FB-A50F-4926EF75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49F3-4864-4A79-A3EC-BD64F7FB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FEEE-724F-49A5-A11F-26760AD1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36D2-C9B1-4D60-A076-9956BB10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002A-254E-4BEB-8559-9F250B2B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F7A0-8715-4B22-BE9A-A1F78AA4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0118-85CA-441F-807F-405C45A4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14E-8257-4DD9-AD06-E293F52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BA9F-8F28-4B30-B1A8-4208816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491F-8FBA-47DF-B39E-5BDD6C5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6DD6-366A-4ADD-A229-79CD5770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0E3C-3B34-4161-A82E-D00ECD75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EC8D-5A42-44F2-BB07-F1FB65FF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F7D-5B88-4224-9785-0939BBF4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9A0-4819-4B59-B377-72338502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DC5-451E-412D-8055-56520BFE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9AF-EADD-4207-95D9-49B612A9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CED-57C4-40EF-8CFF-46E2CDC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633-C8B3-4624-8770-5AE7E0E3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CF5-0C2B-43C5-9BB4-01092A6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F6A8-F22F-4231-AD44-DFA1E9633C1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6EDC-CA4E-4CCB-A40F-48DAE68C7C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Any%20Grader%20I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16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2.xml"/><Relationship Id="rId23" Type="http://schemas.openxmlformats.org/officeDocument/2006/relationships/slide" Target="slide25.xml"/><Relationship Id="rId24" Type="http://schemas.openxmlformats.org/officeDocument/2006/relationships/slide" Target="slide25.xml"/><Relationship Id="rId25" Type="http://schemas.openxmlformats.org/officeDocument/2006/relationships/slide" Target="slide25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1.xml"/><Relationship Id="rId32" Type="http://schemas.openxmlformats.org/officeDocument/2006/relationships/slide" Target="slide3.xml"/><Relationship Id="rId33" Type="http://schemas.openxmlformats.org/officeDocument/2006/relationships/slide" Target="slide3.xml"/><Relationship Id="rId34" Type="http://schemas.openxmlformats.org/officeDocument/2006/relationships/slide" Target="slide3.xml"/><Relationship Id="rId35" Type="http://schemas.openxmlformats.org/officeDocument/2006/relationships/slide" Target="slide3.xml"/><Relationship Id="rId36" Type="http://schemas.openxmlformats.org/officeDocument/2006/relationships/slide" Target="slide3.xml"/><Relationship Id="rId37" Type="http://schemas.openxmlformats.org/officeDocument/2006/relationships/slide" Target="slide3.xml"/><Relationship Id="rId38" Type="http://schemas.openxmlformats.org/officeDocument/2006/relationships/slide" Target="slide3.xml"/><Relationship Id="rId39" Type="http://schemas.openxmlformats.org/officeDocument/2006/relationships/slide" Target="slide3.xml"/><Relationship Id="rId40" Type="http://schemas.openxmlformats.org/officeDocument/2006/relationships/slide" Target="slide3.xml"/><Relationship Id="rId41" Type="http://schemas.openxmlformats.org/officeDocument/2006/relationships/slide" Target="slide3.xml"/><Relationship Id="rId42" Type="http://schemas.openxmlformats.org/officeDocument/2006/relationships/slide" Target="slide3.xml"/><Relationship Id="rId4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497600" y="885240"/>
            <a:ext cx="5896800" cy="4524840"/>
            <a:chOff x="1497600" y="885240"/>
            <a:chExt cx="5896800" cy="45248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770200" y="990720"/>
              <a:ext cx="317340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 rot="9855600">
              <a:off x="1752120" y="2057400"/>
              <a:ext cx="524988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 txBox="1"/>
            <p:nvPr/>
          </p:nvSpPr>
          <p:spPr>
            <a:xfrm rot="19776600">
              <a:off x="1760400" y="2270160"/>
              <a:ext cx="5686560" cy="77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671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Are you SMART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 rot="20139000">
              <a:off x="1599840" y="4190760"/>
              <a:ext cx="188136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th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 rot="20042400">
              <a:off x="5257440" y="3047760"/>
              <a:ext cx="2133720" cy="50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GRAD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20025600">
              <a:off x="3581280" y="3607920"/>
              <a:ext cx="1816200" cy="11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07070"/>
                      </a:gs>
                      <a:gs pos="50000">
                        <a:srgbClr val="ffffff"/>
                      </a:gs>
                      <a:gs pos="100000">
                        <a:srgbClr val="707070"/>
                      </a:gs>
                    </a:gsLst>
                    <a:lin ang="13500000"/>
                  </a:gradFill>
                  <a:latin typeface="Impact"/>
                </a:rPr>
                <a:t>?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Level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Level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Level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Level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Level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Level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Level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?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Level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Level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Level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Level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Level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Level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Level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th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4th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4th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rd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3rd Level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ヒラギノ角ゴ Pro W3"/>
                <a:hlinkClick r:id="rId18" action="ppaction://hlinksldjump"/>
              </a:rPr>
              <a:t>_x0010_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ヒラギノ角ゴ Pro W3"/>
                <a:hlinkClick r:id="rId19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2nd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2nd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1st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1st Level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7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0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1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Level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Level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Level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Level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Level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Level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Darren Furno</cp:lastModifiedBy>
  <dcterms:modified xsi:type="dcterms:W3CDTF">2007-07-18T02:18:15Z</dcterms:modified>
  <cp:revision>23</cp:revision>
  <dc:subject/>
  <dc:title>Are You Smarter  Than a 5th Grader?</dc:title>
</cp:coreProperties>
</file>