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ny%20Grader%20II.wav" ContentType="audio/x-wav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2E6-62D8-49DA-8071-EF42410F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144-8C0F-470E-B234-69B0F985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541-D090-4CDC-8892-9D5CDB1E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C3D-2B43-424C-8871-7F8A608C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49EF-C54D-4949-ABBC-D57C1F42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0033-954A-40E6-9D28-004EF4C7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EC6C-574E-4E2F-AF3A-B255C275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13F1-6AF8-4120-9195-DBC48977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C377-C70B-457E-B9A3-5001EB7C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86AF-0502-4A78-B50C-EED010B3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81BF-28D2-44E5-9809-E12616C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924-EDFA-451B-95B3-1F707FD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F6E5-0EFB-4D46-8370-851E3057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7BDB-3ABB-4C2B-A242-8A908B8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5BE2-2B4C-4E79-8964-4B28A756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3C15-17CB-4897-A390-5B7DF09D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833C-B014-4B81-8D37-461C4811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FD6-FB98-4B3C-B002-82CA3371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BA1-73F2-4FC8-A50A-59A6B7B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81E-AC45-450A-B3C8-DA5FB7BB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47D-3594-41DA-B05B-3AE2BBE7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EAD-2784-477D-A97D-4C0DFB17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F1B-476D-4683-9BD3-057D1AC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532-063B-44ED-807E-9A951D6A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1151-A5BB-4ED4-9F4D-6CD9B049C5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F5E9-1493-4CF4-A059-6652C0A0A2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Any%20Grader%20I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6.xml"/><Relationship Id="rId15" Type="http://schemas.openxmlformats.org/officeDocument/2006/relationships/slide" Target="slide16.xml"/><Relationship Id="rId16" Type="http://schemas.openxmlformats.org/officeDocument/2006/relationships/slide" Target="slide16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22.xml"/><Relationship Id="rId21" Type="http://schemas.openxmlformats.org/officeDocument/2006/relationships/slide" Target="slide22.xml"/><Relationship Id="rId22" Type="http://schemas.openxmlformats.org/officeDocument/2006/relationships/slide" Target="slide22.xml"/><Relationship Id="rId23" Type="http://schemas.openxmlformats.org/officeDocument/2006/relationships/slide" Target="slide25.xml"/><Relationship Id="rId24" Type="http://schemas.openxmlformats.org/officeDocument/2006/relationships/slide" Target="slide25.xml"/><Relationship Id="rId25" Type="http://schemas.openxmlformats.org/officeDocument/2006/relationships/slide" Target="slide25.xml"/><Relationship Id="rId26" Type="http://schemas.openxmlformats.org/officeDocument/2006/relationships/slide" Target="slide28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1.xml"/><Relationship Id="rId32" Type="http://schemas.openxmlformats.org/officeDocument/2006/relationships/slide" Target="slide3.xml"/><Relationship Id="rId33" Type="http://schemas.openxmlformats.org/officeDocument/2006/relationships/slide" Target="slide3.xml"/><Relationship Id="rId34" Type="http://schemas.openxmlformats.org/officeDocument/2006/relationships/slide" Target="slide3.xml"/><Relationship Id="rId35" Type="http://schemas.openxmlformats.org/officeDocument/2006/relationships/slide" Target="slide3.xml"/><Relationship Id="rId36" Type="http://schemas.openxmlformats.org/officeDocument/2006/relationships/slide" Target="slide3.xml"/><Relationship Id="rId37" Type="http://schemas.openxmlformats.org/officeDocument/2006/relationships/slide" Target="slide3.xml"/><Relationship Id="rId38" Type="http://schemas.openxmlformats.org/officeDocument/2006/relationships/slide" Target="slide3.xml"/><Relationship Id="rId39" Type="http://schemas.openxmlformats.org/officeDocument/2006/relationships/slide" Target="slide3.xml"/><Relationship Id="rId40" Type="http://schemas.openxmlformats.org/officeDocument/2006/relationships/slide" Target="slide3.xml"/><Relationship Id="rId41" Type="http://schemas.openxmlformats.org/officeDocument/2006/relationships/slide" Target="slide3.xml"/><Relationship Id="rId42" Type="http://schemas.openxmlformats.org/officeDocument/2006/relationships/slide" Target="slide3.xml"/><Relationship Id="rId4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497600" y="885240"/>
            <a:ext cx="5896800" cy="4524840"/>
            <a:chOff x="1497600" y="885240"/>
            <a:chExt cx="5896800" cy="45248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770200" y="990720"/>
              <a:ext cx="317340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 rot="9855600">
              <a:off x="1752120" y="2057400"/>
              <a:ext cx="524988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 txBox="1"/>
            <p:nvPr/>
          </p:nvSpPr>
          <p:spPr>
            <a:xfrm rot="19776600">
              <a:off x="1760400" y="2270160"/>
              <a:ext cx="5686560" cy="77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671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Are you SMAR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 rot="20139000">
              <a:off x="1599840" y="4190760"/>
              <a:ext cx="188136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th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 rot="20042400">
              <a:off x="5257440" y="3047760"/>
              <a:ext cx="2133720" cy="50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GRAD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 rot="20025600">
              <a:off x="3581280" y="3607920"/>
              <a:ext cx="1816200" cy="11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?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Level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Level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Level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Level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Level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Level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Level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?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Level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Level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Level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Level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Level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Level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Level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th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4th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4th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rd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3rd Level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ヒラギノ角ゴ Pro W3"/>
                <a:hlinkClick r:id="rId18" action="ppaction://hlinksldjump"/>
              </a:rPr>
              <a:t>_x0010_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ヒラギノ角ゴ Pro W3"/>
                <a:hlinkClick r:id="rId19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2nd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2nd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1st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1st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7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9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0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1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2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Level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Level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Level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Level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Level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Level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Darren Furno</cp:lastModifiedBy>
  <dcterms:modified xsi:type="dcterms:W3CDTF">2007-07-18T02:18:15Z</dcterms:modified>
  <cp:revision>23</cp:revision>
  <dc:subject/>
  <dc:title>Are You Smarter  Than a 5th Grader?</dc:title>
</cp:coreProperties>
</file>