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9A8-D078-4C5B-AE28-C1469812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1B8-D446-436E-8021-F1E35625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AFE-58DD-4E80-8D34-E9DB4E7D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B45-C6E5-4284-BD4E-8CAA4DB5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EEF-4E77-47CC-8AC3-52980F9C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44B-C227-4BD5-9A25-59F02D3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00B-3D39-4E76-9644-902C6281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DA4-71EC-4052-A669-318231A4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0F0-AF3D-4443-9FB7-1AFE5DD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C83-98C8-4AA4-A155-C3A19A9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FC0-5D90-45F0-ADF7-2D904CD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93C-78E4-4DFD-A6EA-A5046BA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8785C-EC99-46D0-8A19-955FED45B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ruit_tre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election of fruits sampled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Fruit_t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180600" y="2200320"/>
            <a:ext cx="279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Fruit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rcRect l="25745" t="0" r="25745" b="0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ic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rcRect l="0" t="911" r="0" b="911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ln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rcRect l="19501" t="0" r="19501" b="0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rcRect l="3986" t="0" r="3986" b="0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uebe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910" t="0" r="910" b="0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rcRect l="0" t="9041" r="0" b="9041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mari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0" t="12789" r="0" b="12789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rcRect l="22837" t="0" r="22837" b="0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87480"/>
            <a:ext cx="8229600" cy="1143000"/>
          </a:xfrm>
          <a:prstGeom prst="rect">
            <a:avLst/>
          </a:prstGeom>
          <a:noFill/>
          <a:ln w="3240">
            <a:solidFill>
              <a:srgbClr val="f6f6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rcRect l="0" t="25677" r="0" b="25677"/>
          <a:stretch/>
        </p:blipFill>
        <p:spPr>
          <a:xfrm>
            <a:off x="2382840" y="826920"/>
            <a:ext cx="438624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22:28:07Z</dcterms:created>
  <dc:creator>Holger Brandl</dc:creator>
  <dc:description/>
  <dc:language>en-US</dc:language>
  <cp:lastModifiedBy>Holger Brandl</cp:lastModifiedBy>
  <dcterms:modified xsi:type="dcterms:W3CDTF">2011-09-30T19:00:06Z</dcterms:modified>
  <cp:revision>14</cp:revision>
  <dc:subject/>
  <dc:title>PowerPoint Presentation</dc:title>
</cp:coreProperties>
</file>