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81E-703E-4A78-A515-F22343A7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90741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5298840"/>
            <a:ext cx="90741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AE8-08AA-4CC5-806D-8CE1373A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04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356-9E4F-4232-8CD2-C2488B9C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560" y="370836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370836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529884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560" y="529884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529884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BE6-DA69-4D49-96F9-DED11CCC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2920" y="1547640"/>
            <a:ext cx="90723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28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457-7E87-46D6-99EE-BDD38E8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04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5298840"/>
            <a:ext cx="90741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90741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280" y="5298840"/>
            <a:ext cx="90741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04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370836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370836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280" y="529884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529884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5298840"/>
            <a:ext cx="29217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CD5-B0F1-4450-A2E4-DF4A6132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796-1627-4685-B5FC-85C8EF84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570-4C86-4F0B-870E-BB2B56ED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1547640"/>
            <a:ext cx="90723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244-49A1-4ED8-B8F9-C4EBA639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3D7-1759-4423-9819-4513581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040" y="529884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47F-F3FB-4EC6-ABA1-EA65CA8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3708360"/>
            <a:ext cx="442800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5298840"/>
            <a:ext cx="9074160" cy="145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574-263A-4AD9-A6DC-8C32BC25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47000"/>
          </a:bodyPr>
          <a:p>
            <a:pPr indent="0" algn="ctr">
              <a:spcBef>
                <a:spcPts val="12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 algn="ctr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2" marL="59148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3" marL="82872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4" marL="106524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5" marL="106524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6" marL="106524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E1E7B9C-C44E-48B8-9007-527736622A2C}" type="slidenum">
              <a:rPr b="0" lang="en-US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3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47000"/>
          </a:bodyPr>
          <a:p>
            <a:pPr indent="0" algn="ctr">
              <a:spcBef>
                <a:spcPts val="12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 algn="ctr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2" marL="59148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3" marL="82872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4" marL="106524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5" marL="106524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lvl="6" marL="1065240" indent="-117720" algn="ctr">
              <a:spcBef>
                <a:spcPts val="12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ling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ch aufhalten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rumdrüc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male Spalte; Ri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yr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rnwindu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lc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ur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urche, Schlit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and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rü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tebral colum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irbelsäu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tutt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o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14400" y="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cessan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unterbrochen, unaufhörlich, unabläss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icinit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mgebung, Näh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ndesti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imli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rebu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iderle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ordil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schwätz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dilu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dünnen, verwäss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ci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illschweigend, wort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tinen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chdienlich, sachgemäß;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ur Sache gehör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undru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ätsel, Probl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697960" y="668196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lußfolg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ns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räftig, stark; tief, angestreng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ually 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igentlich, tatsächl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uin, Verder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urio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echt, künstli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jectur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nahme, Hypothese, Vermutu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z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unstig, nebel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il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bekümmert, sorg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readfu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recklich, furchtb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livio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gessenhei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masticate, to cham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au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lumb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lumme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vomi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brech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nk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iedlich; zierl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s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mit nicht, damit nicht etwa; um nich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tche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il, A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nuo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ünn, dürr; dürft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rash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üll; unüberlegt, fr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58000" y="480060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ensnar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ngen, umgarn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u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z; F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etricio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antwortungslos, bill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l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raube, Bol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ve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und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libe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leumden; in schlechten Ruf br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zz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inen starken Rausch verursache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auf Drogen bezogen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tativ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meintli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hone</a:t>
            </a:r>
            <a:br>
              <a:rPr sz="44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g. to hone academic skills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lei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400800" y="712476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dissocia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nnen, abtre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aniu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ae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accomoda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herbergen; unterbr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llici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erlaub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bo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-228600" y="3886200"/>
            <a:ext cx="22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w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tsc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rtl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fregend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fschrecke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underbol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nnerschlag; Schlag; Unglü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helte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be)schuet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f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breit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kältu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honk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u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ensura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eich groß; von gleicher Dau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rgai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nderangebot; feilsc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vidit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gierde; Stre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miere (umgspr. für Klebstoff); "Schmalz" (umgspr. für: sentimentales Zeu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o) til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igung; kip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recoi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urückspringen; zurückprall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pki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ette; Windel; Mundtu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ar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fäß; Glas; Kanne; Top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ma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stürzung, Schrec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oro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icklich, passend, anständ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nop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änfte; Baldachin; Kappe; D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dogeno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dogen, im Inneren entstehend, von innen komme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plung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uchen, sich stür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nu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borgen; behaglich, gemütlich; eng anlieg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ndan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ltlich, irdisch;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commend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ben; empfeh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o) strol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mmel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mmel, Spazierg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ircas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ppenha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attain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eichen; verwirklichen, bekom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nn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stig, schl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sh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dankenstrich; Prise; Sprin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ndkerchief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schent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para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vereinbar, völlig verschieden; ungleichart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mbl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mherirrend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weich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eas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tt; Schmi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hum (humming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en; brummen; murmel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ugalit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nügsamkeit; Sparsam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tl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ck, fre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ngl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itzelnd, brennend; kribbel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kling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eutung, Ahn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limsy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ünn, schw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tut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arfsinni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diver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terhalten; umleiten, len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itl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llimitabl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beschränkt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eingeschränkt;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endli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neake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urnschu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ce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hnürsen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hun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rschie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z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rrgarten; Labyrin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stim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eitvertreib; Kurzwei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rg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ogen, Schwall, Spannungssto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ab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undschor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arc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ten, r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2920" y="154764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simoniou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3708360"/>
            <a:ext cx="9074160" cy="304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arsam; geize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6:19:11Z</dcterms:created>
  <dc:creator/>
  <dc:description/>
  <dc:language>en-US</dc:language>
  <cp:lastModifiedBy>Holger Brandl</cp:lastModifiedBy>
  <dcterms:modified xsi:type="dcterms:W3CDTF">2011-09-30T18:51:42Z</dcterms:modified>
  <cp:revision>313</cp:revision>
  <dc:subject/>
  <dc:title>to ling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pencards_flashcardCollection">
    <vt:lpwstr>78DAED5D6D6F1B37D6FDDE5F61E4BB29DE17BE09AA81DD360B1468B77D92EE7E592C0AD599ECAAAB488124074D7FFD43CA6FD258663C9A5AE690740C44D2CCC8E4E1E5E1E1E5E5E564B678BF14CB8FCDE272BA7AB71697CB5523FE369FAEFFFB8D7FFFCD723E6F2E37B3E5E26CDDAC66D3F9EC8F6978F7F5ABCBABF566F9E1D5C557676793ABC5DDC55FE7CDF9C7E9AA596CD6A3EDB5F96CBD092FFCCB77CDFBE9D5FCE69D7FBF9EFDD15C3837196D5F5CDF33DABB69325B6C2E8068320A2F6E3F8A94F7EEBBC3C59F679B7973F1A3BF355C5AFFF23EDC152E4C46F797771FF8EEDB0B30DA9203A9CDF54DFEA3BD3B16EF9ADF2FE4CDB5ED9BDBCBABE6D34FCBF9ECF2F3C59BBFFCFDDB1F7FF8E5CDEB7FBE7EF3F6F564747FE5A68E4FA8C27357930D9333E430524D05C3AF27A25306D0C9583D71F0F5D4522A60E498D52A1A7C35AD66C9CE31C4AAC9C3B75A87CE6AE7B48BD553E5D03B257BC68D9BAD1E7C3D518156C6729484CCF09B5391368EC8AA583DEDF0EB29D14B04CFB7D17ABAE1D7D3180243CA50A49E7AF862C881B18AA4E64835CDF0CDD648B406D41D9F1E6C4DC8A0354981923AA66CF5F0159F535AB2849842D0C3177C8E242BE3455FAC9AC3177CE4A7638CC6C67490CE40EF9156BE6F12C584901EBEDED37ED8545EBD472968F87A0FC1774EE9383A4DD119E83D4DC4A4A2FA400F5FEEA1764623C6C49E19BED84347DA5AC6A8D81BBE0AB2567AE5EEB550AC9A9841D74494166C946A0D65301503E9059F89EA3D337C2184A4FD2C85A20E2193811092FE070C46474EA333F008F9698A37DDA8FBDD981C3C0884EC20CA422E030F82AFA394CE46AA69339008524B450A293678DAE16B0496BE6F9235B1CE6933D0080CE0CD962846B636038D004E2B74A0A3DD3383D531D65A292B5DB43D331009CEEB5ACFB618ED9F198804CB7EB642363ABFB6C3170916FD3F693026126C06DE12ABD15B2D4707CF0C16C7FC74CC29C72E564F978318223FAE30726C5471C317435AFB1919519484DCF0C51059B06064D42FE486AF85D878AE75CEC402855C065208BCC13AE364B4393390425A134B3FC58E455CB8E14B214B1AB5342AA66C5D060B47968DF2539528D766A0849C25944C2E66B590830FDE68728E62812519B8119074F06546631132F02270882A61885673F823A7756890948C86F065D035A59F593B1915EF190C9B7E2A4616A38E920CC26B4D706422718C67873F6AB27356B18A4BDA0CBC24DE5C157BB68D6983E1BB0FB493DA20724CD10264E025B152A1A2A84F1A862F828C03B0E4FFC5AA493938F742E4294777014206FE03DA3AA431BA640419E8206588194CD4590B192CA56C6D164C744917862F8548A11F40C9C5DC7B90C18E0DAB1D3869622B46E07258D0653F1D73109B8CA1CC20DE423AAB6DAC3531037750086C33CE136EAC9E19F883FC2485A4021DE35ACCC121641D01C6773B6206A1A7804CCE9AA8E6C31C7C42A009FDB8129BAAE0F0B590518E89754C22E0F0959072681965D466335849314A1AF9851D5598811292647C25A58A8D29944350896336F19812CA400A2905C0BE49A3CD8919F8DFC910928D3627E5B0DF91B40CFECC583D335042122064DA895A6D064208D829F65A28261168F8428809354972B16523CA6137320386308498AEA5E16B2167591A4617937C94C16E6446A3D1AA58E7E40C12F1A131D68F2A26D63B1972483868C2227D34168A73F00A39446FB7D1287FCE61B311B14225A35B1E39871532654335A374CB396C36729A5C7C4F15EB0CF20919D0261A78CA592466D966558CC6D070066E214265199C8DCD543807B71086D56B192521F5EC626832BA4DE63C7962D2E847123FCF36E196F5ED7BFF49B3D8AC3EDFBFF79FFC36FD343DBFF45FB9BE68FDB179335D2DD69BD574135ECF368B6625BEBFFEFFBB4DF36132DA7974F71B9FFE356F3FAFFD1745325EEF7C6B24F7F5CE5DF759B0773E6CC1B273E54066EC9DABA3471E3C902DFBA8EA07140F14EABA6AA181CF56CDFBC6BFB96CBE7E25C4E8E06FA871DCA45E8D0EFC9199FFDB6F37D34D13926CDFBF790041BFDAA407C6BFF0DF158F5D3CA8E2B18707573CF6F050158F3D3C74C5630F0F53F1D8C3C3563CF6F070158F3D3C405640F601810AC83E2055A2B600A91AB5054815A92D40AA4A6D0152656A0B90AA535B8054A1DA02A42AD596A7AC2AD5162055A9B600A94AB5054855AA2D40AA526D0152956A0B90AA545B8054A5DA02A42AD5162055A9B6D630AB526D0152956A0B90AA545B8054A5DA02A42AD5162055A9B600A94AB5054855AA2D40AA526D0152956A2BBAAC2AD5162055A9B600A94AB5054855AA2D40AA526D0152956A0B90AA545B8054A5DA02A42AD5162055A9B6E2FE234AF5A7D5F2E3BAA2B58B1654B43AA08515AD0E685145AB035A5CD1EA8096AA6875404B57B43AA0652A5A1DD0B215AD0E68B98A56873DAB55CB7741AB6AF92E68552DDF05ADAAE5BBA055B57C17B4AA96EF8256D5F25DD0AA5ABE0B5A55CB7741AB6AF92EF956AA96EF8256D5F25DD0AA5ABE0B5A55CB7741AB6AF92E68552DDF05ADAAE5BBA055B57C17B4AA96EF8256D5F25D7205562DDF05ADAAE5BBA055B57C17B4AA96EF8256D5F25DD0AA5ABE0B5A55CB7741AB6AF92E68552DDF05ADAAE5BBE4B9AE5ABE0B5A55CB7741AB6AF92E68552DDF05ADAAE5BBA055B57C17B4AA96EF8256D5F25DD0AA5ABE0B5AA96AF9FBB30E1FC76F5B97F068FBC0C39D471E3FE3EF63A8DEC3CF0F1D86B873CD977FB6F8CF4528FFB63EE2C3F25D3319DD7C7CF899701AE0E14301AF6BFAE8DFEB5692CDEC43F3FDECC36CF3F6E36CE1417D42A9403E7FB1425B9DA05893D1C1067DE4B0C6C3A76DC66CA9F3F1951D4C71B6986DFEBAFC7DDB9D6E5E3EBCE9D7E5EFCD617B3D74B8E5518C132195435CF2856F3B442C2F5EA847CE797CF97251A2E5E244CBA5122D974EB45C26D172D944CBE5122DD723E7C425503048B560A9523EA4CAF9902AE943AAAC0FA9D23EA4CAFB902AF143AACC8FA9323FA6CAFC982AF363AACC8FA9323FA6CAFC982AF363AACC8FA9323FA6CAFC942AF353AACC4FC9BA7952657E4A95F92955E6A754999F52657E4A95F92955E6E754999F53657E4E95F939590F7FAACCCFA9323FA7CAFC9C2AF373AACCCFA932BF4A95F955AACCAF52657E952AF3AB64177753657E952AF3AB54995FA5CAFC2A55E6D7A932BF4E95F975AACCAF53657E9D2AF3EB64E37A52657E9D2AF3EB54995FA7CAFC2655E637A932BF4995F94DAACC6F52657E932AF39B64433A53657E932AF39B5499DFA6CAFC3655E6B7A932BF4D95F96DAACC6F53657E9B2AF3DB64A3F953657E9B2AF3BB5499DFA5CAFC2E55E677A932BF4B95F95DAACCEF52657E972AF3BB6437723DC6FC87B698EFECA81D3DF795C9E8E096DEA7EE58EEB401B9CFD30FB65C3FDCFF3DF96DFA697A7E399FAED717B13FB4F920BEFFF987D02C93D1CE235F3DD156AE1FBFDFA17DB66E56B3E97CF6C734BCFBFAD5E5D57AB3FCF0AA05DCD5E2EEB65FE7CDF9750E85766283839BA8235BB6D7B33F9A0BE726A3ED8BA735E1EDEE763A9C0C60F234E44E9016229E12E2D89400AB66F3D3723EBBFCFC840C00EEA80C0091224E9AE97AB668BCB19100FF15B7EF1EDEB8B8FAF0A6F9D86C66DB1C007A32DAFFE0E1031EB5CDFF5D35BE4828419EFB5FB467C063926305C2497BF6CDEBB73F7BB6B9BBAF53A68CC75B3E1D83F9D79712910DDE66B4DCFDE96241B6B30549752EF10C60CC662CB56080022C8872B720DCB320EA6041D09D83E05CBAAD05F1188D401D2C287303E2DC0DC8EE5390EE6041E6180E027306384637061446EB023848E56E428C2F308A790B622D141560403A7703A27D1D643B5890EB6E41EEDC8B6769BDF98C410BAB4B302193B709B1A0E71EB76EB4B31B4B27AC3505D88CADB3AFE7987DE931193F6496C03A2E7BE5B3A79EF1341C84664C5238CD055810C8BC4D08853B5A3CF79CC05B3F8C51FE137880EC67F07CB40F481DE387962A9810C8315BA154112C94BD239A8F9642AEC752068C9514864A58CA80FC3DD1FA5813EABE1A264D98C3A31C4B33562C9CC5124C8873D742BC6F42F4BC2BAA10F4B4B7215063F4737A55C06A06A8DCFD40C0C7B2903A9E85C258A68572AA0416D2D9BB129F710D4CBAC03BE07987C6E0BCE108625300EF64EF7FD66EF7C73EAF2788CF91CE248C11BC0012AA0C019DB93B3AC474EDFDE893C5933109ABE5976C2820F6BFD9C77F2C36B37960321B3C920467B8F56903087D2BC2EF6FCBD00CF3F769D32E9399E79DC7B97309612D56E118A5D0A684791CCADC4DC8E8175858F326C420804A585843C8DD15B06F42A84E4343EC074323B8049F3662EE2664F1848BB37703198F95125044602352F62674FCD29AEB3592791B7246966043D93BB5AD3E96867A8821D2635682A8083D9DBD535B9BDD29D9E93679843023C3F9BB2751D7C5D967589C0DB16AC19F50C48CCC64EF17E263C7313C9E84C0840999C30238C8E62E84481E2DA6CDF116E47948999B095907F7F6CD5750E0B11067026185E7FA2B72766F63F6EE6DF3529BD550282E214080B2776FD35ED43FE0899648BCA0B2A2889D47947DCCB63B3ED2ADE7CE112B349720C809AB0DFD9943990931274191F398FC7C924B8839A1EC83B6F57EB8A47A5E1BBA5B66836D061A5544061ACEDD3BB91F3082CF1DB674B3FDC89B50985216A1A8B37770A37E760D6DCE408F498D5109E212964548D779D8B3CCC338CCC3CA88332293BB53727F69CD753021EE11738B6304C158C45C3EFB3422663F855A171AA27E5BF8415859C0AE3572751AF6A809A95EFBAF490A0B256868CE3E9188DA1FC94EB57DC4CFC34216D2226C086A1A883F2FDC71D7843884CC9610EEC8D97BA5D54B255573C25209829A29FB0DD847CFC98E5A1B433803195C434A0A8412A6F59C7D566BD6271CC8EEA66414A66408B280B4E8AAB03D8C2792D3E8C6A8853A66377620331BF24A9019230B7537ADCB395E8D75595B903AD921F5CB892485760504FFB3C97F75EDD8C1B067A66C16D694B0C6CFD9FBB8499E7034BCCFEE6743BC9A8512F663B3CB3E35DB7EFCBF3A0D0F911FCC480094E05D525F72728FBA6C55ED740E479FA40BE8070BC15082F34641BF16DA4F387F820C99777B68A420A3F357830AFB3590C2D369ADDD1C5E04828AF05D29EAD3402F95652DCCEB43469222CE3BE37E5DA8874EB0FD56A1A450B684F98A527FAA4EA013B11C0425E78AE842BA4F03519F2ED42F7B9632421771B49132FDBAD0BE7B599E28CD22BB70EE0BAB22A4B61DE4644886030DA088635594EB27E5F6A3553A896DEC1578094E5867F39F0C69D9536BEF772177A27822DF85AC405D02C969E8D742ADD39FF9444183389656501127D8691CA2945332840617E134D534C806C2B08556711124D7D3A1A0F5D12E9FA332C10287160AA79B91D04544D7EB9E0E05694F776ACFAE4F4E3AC1AE882EA4073A0A310B638A68A19E0E0577C20C8F7B3B888C002C211988B683EC421CA4B62EE26832ED06D9421496BFAD2A416B1B3948BFB60BC76C71113E3903035DBC03290C96B078677A4628803DE16C68576C5348645E04CBD140E7ABBE855C1189DDCC603D0A619763090DA4062914FCAF1684450805DD7318D22F112887217713DA1262488C196417C26D7A5153C27CD5D89772F9F44B1AE30721258BE0383748998061D70C15D1856CCF1D0F688F0EC3EA17AFCD52601187045A18561F0AD920306CE50725B0843CA1B6A73FA147FABB7E3A0150D822F24E591A68AC2980205D824FCEF240494E7A1559448482557F66A09C7CE60C8DBB493E496843F9C79A5A3DD0E555A442D2D0DBBE110AFB7D884FB7E541799152440BD961C690281604454C86DC8B6DBCD3BD8E6B0129B808978FEBE950D83F5EF084DB8B43B87611ABABAEE79607C3C7925CCF6CED4AA8120EB2757D373CE853F6A0DB84674463A5848602129EB9A16D78B83EBA87428E0B28C267EAB85F0BED37D0C994F6364B0C14A1B45DCF0D0F78BC4CB0FD4E5307C1AE8033439C1E24C9A92DC971113ACE0CB5859C9F0B15310CD941B6901E2B4FB0BA843846E706D942DB6D5D44CFB43234D922D7FAEC108EE1D16F96F3797379A8029377CDFBE9D57C73A81DD3CEC779B07893D1C1FA4C46DD90794A931C7AB255DC903434DC7657CC2DA6CD6A336B764AFE10CE7B103F35AB75F33890071BFCCDEE53176FFEF2F76F7FFCE19737AFFFF9FACDDBD78781D87FE2AB47C17FBCA43FFA2F0C7D757DFE8F75B3FAEEDB83859D2FFD07E7A4481942A90D308051A0D1DBF272F7DE07303E846DB2FEBCB87CBB996EBE80E46FD34FD3F34BDFF7D617B1266D669B45B312DF5FFF1F0C6332DA7974F71B7F5D2EFDA38B8BF7D3F9BA998C6EDF7642ED89A5BAEFFB5F2CCD6675F584C2F86669C1B6D761267122DEB5F8A7DFFAFFC6F75114</vt:lpwstr>
  </property>
</Properties>
</file>