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78A60FE7-D996-4455-9070-AFFDFF838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51ECAEF3-DFA0-401D-BC39-5AD7986AE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81E4B6CE-A811-4143-96B1-32B8E5F0E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191CD7F8-5653-40C5-819E-1CAF8665D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2D335A92-9064-498A-98B6-AD7F329E4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10DED2CF-C147-4DB8-9636-6647D32D4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216-4ABF-48EF-91E7-8C6305D1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3B9-EBC3-4EB5-80E3-728BDFFF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145-803E-4BFE-AAC5-70CD51C2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0F6-4384-48B7-B6C7-06A3CEC1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2D87-A210-43D0-B208-1D7D041E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7612-02CE-4A77-8AAB-A8C545E0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8482-F9E1-4398-B20E-2F7319DF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5269-0525-4A02-A018-29C6C012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8963-CC6B-4E32-9630-B3179A12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587B-67E9-47DC-9988-057BB6EB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C621-DEF5-4048-BCE2-2612389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233-F58D-43F5-88AC-500F3CA2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C1A3-C02B-4ACE-9109-FF931AE7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6996-BE74-43CD-9582-94B2A6C9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D8C8-01ED-4D63-8EE1-6D43DEAC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A4C0-CE45-421E-BE79-D25817DA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3EE2-6C19-4D0E-9639-A1BF7CEE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71E-C80A-4427-9E50-82716CE0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0E1-B1FF-4EB9-9068-C568828F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4FD-959E-4064-B717-E86E6940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FE2-4436-470D-A2BC-7C350866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E12-8754-4EDD-97AF-448A5CD8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DFD-FA4C-4921-B16E-A914875C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A43-8279-4E45-9CAF-5CEFE7B9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fld id="{695F9C88-13EA-4D1B-8B54-6A76E9BD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289A95BF-F396-4718-BF93-27D1B83FBF92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definition of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ogistic fun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259092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005440" y="2514600"/>
            <a:ext cx="39099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What is the logit function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22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e logit function is the inverse of the "sigmoid", or "logistic" func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871640" y="3635280"/>
            <a:ext cx="700092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What is the Jaccard Index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22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measures similarity between sample sets, and is defined as the size of the intersection divided by the size of the union of the sample set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560760" y="3502080"/>
            <a:ext cx="2382840" cy="10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What is cosine similarity? Domain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22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a measure of similarity between two vectors of n dimensions by finding the cosine of the angle between the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30200" indent="-3222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Domain: [-1, 1]; 0 == same direc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165480" y="4800600"/>
            <a:ext cx="3463920" cy="8334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4"/>
          <p:cNvSpPr/>
          <p:nvPr/>
        </p:nvSpPr>
        <p:spPr>
          <a:xfrm>
            <a:off x="6400800" y="4114800"/>
            <a:ext cx="2057400" cy="457200"/>
          </a:xfrm>
          <a:prstGeom prst="wedgeRoundRectCallout">
            <a:avLst>
              <a:gd name="adj1" fmla="val -46134"/>
              <a:gd name="adj2" fmla="val 10058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6629400" y="5943600"/>
            <a:ext cx="2057400" cy="457200"/>
          </a:xfrm>
          <a:prstGeom prst="wedgeRoundRectCallout">
            <a:avLst>
              <a:gd name="adj1" fmla="val -47064"/>
              <a:gd name="adj2" fmla="val -9303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What is a manifold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-3222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68356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a manifold is a mathematical space that on a small enough scale resembles the Euclidean space of a specific dimens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8:45:53Z</dcterms:created>
  <dc:creator/>
  <dc:description/>
  <dc:language>en-US</dc:language>
  <cp:lastModifiedBy>Holger Brandl</cp:lastModifiedBy>
  <dcterms:modified xsi:type="dcterms:W3CDTF">2011-09-29T23:01:01Z</dcterms:modified>
  <cp:revision>44</cp:revision>
  <dc:subject/>
  <dc:title>What is the definition of the  Logistic function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pencards_flashcardCollection">
    <vt:lpwstr>78DAE5575B6BDB30147EDFAF3079B7AC9B6FC1358C768342BB5EF734CA705D65D370EC602965EDAFDF91D3247662BBC942C64242C03A37E97CFAA4E3E348E6A302151391A749F9A4505A94027DCE12F5F314E4D322CB44AA65915B4A9432C9E46B62A493413A55BA180FE20F96154DF385F13113F6242945AE9553D932A9B419C0F0498C9269F62681ACE4AB88DDC8A99E3317A7E113C95CC704478E79CE353DD92E6636C67BA933115F81AB31A9EF23E3650C91B334D703CECF62EABB8C078CCC5C40D1B0E74FE2778CDF6C95303797E2F9BAC864FA127FB9BABDFC7811394BCD1BB00D12DF33381284008F31CFEF81470E171E271EE37EE8793DF0E8E1C2C31EF3BD20607DF0D8C1C2A398701E863CE883C7F7052F72E6652ADAB01C769434A98D8B9ACBA0814A58BE2C65D0FC4A9E133B852955BCB25826923257BA4C348CF5185DDC5F9E6B318E9C5A487DA6F7C337AADFB5197B2A79CD6B59D36BCA95ADA859D6EB7CCDE874C4ADD7FEAD809B7D6B496506C850699562244048C5C90021A7F56F70F61F9E81D3B28884B5AFCB62A2DA8C2251321740244514CEF3425CF7CCA7E35B31115A56E70D7C9B8AF500484ADF4C051C37B84DC4C6BE4D030B87434E86CC4521A5D6E9A7BB7B38EB0BBF3532FE6E63FF1F3EBED1871D282188735CFFD12D08223B1044870423E61E013FEC61A72BE336E8C1DB5C2077A70B8409F2DC632088EF4850B06F4A486828C140898FFC3038024ADCDD28A1B47167BC2D080AB627C8B309B6081F523A641C413FB71F82961D5B3765D5369AD0D5B66DA3AE65D2BAB51DFD4A7B8FD9BDF626A0DB2281BB7A3F09D3341BCE2A6B516A29FA7B505849E63F963DBAFD15FABEF333E8D16686BA6F5680C2662E737D46B1E7C38716F15DE2C1CBB1327527B79E4CA45EF2F44E275AFCAB1EF9B12820248F4749A644E4CCC5EEA457336C30FECEB7449DB2CD5DFF0042E80FC7</vt:lpwstr>
  </property>
</Properties>
</file>